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48040" y="942516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1CA2-E205-45FA-AC6C-B4B5BBDF8CE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04680" y="4711320"/>
            <a:ext cx="4981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ichts hinzuzufüg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8612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236000" y="155520"/>
            <a:ext cx="122868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58960" y="446040"/>
            <a:ext cx="652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80"/>
                </a:solidFill>
                <a:latin typeface="Arial"/>
              </a:rPr>
              <a:t>Accreditation of Prior Learning for Academic Studies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50760" y="695160"/>
            <a:ext cx="6336000" cy="3672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074600" y="6308640"/>
            <a:ext cx="652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666666"/>
                </a:solidFill>
                <a:latin typeface="NeueDemos-Bold"/>
              </a:rPr>
              <a:t>Presidency Conference “Realising the European Learning Are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6666"/>
                </a:solidFill>
                <a:latin typeface="NeueDemos"/>
              </a:rPr>
              <a:t>Munich, 4 – 5 June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7800" y="6165720"/>
            <a:ext cx="7469280" cy="730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6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3300"/>
                </a:solidFill>
                <a:latin typeface="NeueDemos-Italic"/>
              </a:rPr>
              <a:t>The Accreditation of Prior Learning in Germany</a:t>
            </a:r>
            <a:br>
              <a:rPr sz="2800"/>
            </a:br>
            <a:r>
              <a:rPr b="0" lang="en-GB" sz="2800" spc="-1" strike="noStrike">
                <a:solidFill>
                  <a:srgbClr val="cc3300"/>
                </a:solidFill>
                <a:latin typeface="NeueDemos-Italic"/>
              </a:rPr>
              <a:t>A Federal Project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0000" y="1125360"/>
          <a:ext cx="7272360" cy="4803840"/>
        </p:xfrm>
        <a:graphic>
          <a:graphicData uri="http://schemas.openxmlformats.org/drawingml/2006/table">
            <a:tbl>
              <a:tblPr/>
              <a:tblGrid>
                <a:gridCol w="2424240"/>
                <a:gridCol w="2424240"/>
                <a:gridCol w="24238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Learning Outco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ssessment of Equi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ccreditation Proced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nception /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cription of learning outcomes from academic studies, vocational education, and practical exper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ethodology to assess equivalence of outcomes across these learning environ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sign of concrete accreditation procedure at university / polytech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610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em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Which strategies and specific steps are necessary / probably successful for the implementation of these three ‘building blocks’ in practic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Fitness for Practic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931320" y="1803240"/>
            <a:ext cx="1800" cy="373392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31320" y="5537160"/>
            <a:ext cx="1800" cy="3816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1320" y="5486400"/>
            <a:ext cx="1800" cy="50760"/>
          </a:xfrm>
          <a:prstGeom prst="line">
            <a:avLst/>
          </a:prstGeom>
          <a:ln w="1260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42920" y="981000"/>
            <a:ext cx="7416360" cy="4896000"/>
            <a:chOff x="1042920" y="981000"/>
            <a:chExt cx="7416360" cy="4896000"/>
          </a:xfrm>
        </p:grpSpPr>
        <p:sp>
          <p:nvSpPr>
            <p:cNvPr id="114" name=""/>
            <p:cNvSpPr/>
            <p:nvPr/>
          </p:nvSpPr>
          <p:spPr>
            <a:xfrm>
              <a:off x="1042920" y="981000"/>
              <a:ext cx="7416360" cy="4896000"/>
            </a:xfrm>
            <a:prstGeom prst="ellipse">
              <a:avLst/>
            </a:prstGeom>
            <a:solidFill>
              <a:srgbClr val="000080"/>
            </a:solidFill>
            <a:ln w="442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1440" y="2347920"/>
              <a:ext cx="4798440" cy="309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5560" y="1643040"/>
              <a:ext cx="292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600" spc="-1" strike="noStrike">
                  <a:solidFill>
                    <a:srgbClr val="ffff99"/>
                  </a:solidFill>
                  <a:latin typeface="Arial"/>
                </a:rPr>
                <a:t>Competenc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89440" y="296532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ccff33"/>
                  </a:solidFill>
                  <a:latin typeface="Arial"/>
                </a:rPr>
                <a:t>Qualific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88320" y="3573360"/>
              <a:ext cx="2399040" cy="1584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6760" y="3921120"/>
              <a:ext cx="140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Arial"/>
                </a:rPr>
                <a:t>Knowled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704920" y="5877000"/>
            <a:ext cx="328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cc"/>
                </a:solidFill>
                <a:latin typeface="Arial"/>
              </a:rPr>
              <a:t>Source: John Erpenbeck, Presentation Berlin 7.4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00000" y="1550880"/>
            <a:ext cx="72723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Political hurd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ederalism: Responsibilities for vocational and academic education divided between federal level and ‘Länder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istorically developed structural hurdles between academic and vocational education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mutual inte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nguage b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knowledge about the other s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390680"/>
            <a:ext cx="727236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</a:rPr>
              <a:t>Hurdles on the university si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ear of losing ‚monopoly‘ in academic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ack of interest because of presently high number of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ducation – especially continuing education – is not regarded as crucial for universities` reputation / ‘excellence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High demand of resources for study programme re-design (from traditional Diploma to Bachelor/M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Aft>
                <a:spcPts val="1250"/>
              </a:spcAft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Low acceptance at accreditation agen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30520" y="1608120"/>
            <a:ext cx="5229000" cy="43783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1280" y="9381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Case study: North-Western Project Consor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00680" y="2832120"/>
            <a:ext cx="2361960" cy="1113120"/>
            <a:chOff x="4000680" y="2832120"/>
            <a:chExt cx="2361960" cy="1113120"/>
          </a:xfrm>
        </p:grpSpPr>
        <p:sp>
          <p:nvSpPr>
            <p:cNvPr id="127" name=""/>
            <p:cNvSpPr/>
            <p:nvPr/>
          </p:nvSpPr>
          <p:spPr>
            <a:xfrm>
              <a:off x="4000680" y="3486240"/>
              <a:ext cx="1242720" cy="4590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vO Uni Oldenbu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0680" y="3201840"/>
              <a:ext cx="714240" cy="276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b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9960" y="2832120"/>
              <a:ext cx="1282680" cy="571320"/>
            </a:xfrm>
            <a:prstGeom prst="wedgeRoundRectCallout">
              <a:avLst>
                <a:gd name="adj1" fmla="val -43689"/>
                <a:gd name="adj2" fmla="val 73888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iversity of Old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411960" y="2959200"/>
            <a:ext cx="1805040" cy="1301760"/>
            <a:chOff x="6411960" y="2959200"/>
            <a:chExt cx="1805040" cy="1301760"/>
          </a:xfrm>
        </p:grpSpPr>
        <p:sp>
          <p:nvSpPr>
            <p:cNvPr id="131" name=""/>
            <p:cNvSpPr/>
            <p:nvPr/>
          </p:nvSpPr>
          <p:spPr>
            <a:xfrm>
              <a:off x="6411960" y="3619440"/>
              <a:ext cx="928800" cy="641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Uni Bremen / IT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4320" y="2959200"/>
              <a:ext cx="1282680" cy="571320"/>
            </a:xfrm>
            <a:prstGeom prst="wedgeRoundRectCallout">
              <a:avLst>
                <a:gd name="adj1" fmla="val -26856"/>
                <a:gd name="adj2" fmla="val 82777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University of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451560" y="4359240"/>
            <a:ext cx="2006640" cy="1546200"/>
            <a:chOff x="6451560" y="4359240"/>
            <a:chExt cx="2006640" cy="1546200"/>
          </a:xfrm>
        </p:grpSpPr>
        <p:sp>
          <p:nvSpPr>
            <p:cNvPr id="134" name=""/>
            <p:cNvSpPr/>
            <p:nvPr/>
          </p:nvSpPr>
          <p:spPr>
            <a:xfrm>
              <a:off x="6451560" y="4359240"/>
              <a:ext cx="1176480" cy="641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rbeitnehmer-kammer Bre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75520" y="5118120"/>
              <a:ext cx="1282680" cy="787320"/>
            </a:xfrm>
            <a:prstGeom prst="wedgeRoundRectCallout">
              <a:avLst>
                <a:gd name="adj1" fmla="val -38736"/>
                <a:gd name="adj2" fmla="val -7298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Employees´Chamber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62120" y="2438280"/>
            <a:ext cx="3017880" cy="1607040"/>
            <a:chOff x="762120" y="2438280"/>
            <a:chExt cx="3017880" cy="1607040"/>
          </a:xfrm>
        </p:grpSpPr>
        <p:sp>
          <p:nvSpPr>
            <p:cNvPr id="137" name=""/>
            <p:cNvSpPr/>
            <p:nvPr/>
          </p:nvSpPr>
          <p:spPr>
            <a:xfrm>
              <a:off x="2409840" y="3586320"/>
              <a:ext cx="137016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IHK Ostfriesland und Papenbu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2438280"/>
              <a:ext cx="1282680" cy="1320840"/>
            </a:xfrm>
            <a:prstGeom prst="wedgeRoundRectCallout">
              <a:avLst>
                <a:gd name="adj1" fmla="val 92944"/>
                <a:gd name="adj2" fmla="val 34375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ommerce and Industry East Frisia / Pap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74720" y="4065480"/>
            <a:ext cx="4468680" cy="1306800"/>
            <a:chOff x="774720" y="4065480"/>
            <a:chExt cx="4468680" cy="1306800"/>
          </a:xfrm>
        </p:grpSpPr>
        <p:sp>
          <p:nvSpPr>
            <p:cNvPr id="140" name=""/>
            <p:cNvSpPr/>
            <p:nvPr/>
          </p:nvSpPr>
          <p:spPr>
            <a:xfrm>
              <a:off x="3780000" y="4065480"/>
              <a:ext cx="146340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ldenburgische IH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4720" y="4381560"/>
              <a:ext cx="1282680" cy="990720"/>
            </a:xfrm>
            <a:prstGeom prst="wedgeRoundRectCallout">
              <a:avLst>
                <a:gd name="adj1" fmla="val 181064"/>
                <a:gd name="adj2" fmla="val -54166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ommerce and Industry Oldenbur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517920" y="4381560"/>
            <a:ext cx="2863800" cy="1384200"/>
            <a:chOff x="3517920" y="4381560"/>
            <a:chExt cx="2863800" cy="1384200"/>
          </a:xfrm>
        </p:grpSpPr>
        <p:sp>
          <p:nvSpPr>
            <p:cNvPr id="143" name=""/>
            <p:cNvSpPr/>
            <p:nvPr/>
          </p:nvSpPr>
          <p:spPr>
            <a:xfrm>
              <a:off x="5640480" y="4381560"/>
              <a:ext cx="741240" cy="4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HK Bre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17920" y="4940280"/>
              <a:ext cx="1282680" cy="825480"/>
            </a:xfrm>
            <a:prstGeom prst="wedgeRoundRectCallout">
              <a:avLst>
                <a:gd name="adj1" fmla="val 117699"/>
                <a:gd name="adj2" fmla="val -82694"/>
                <a:gd name="adj3" fmla="val 1666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hamber of Crafts Brem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697800" y="2685960"/>
            <a:ext cx="0" cy="5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24200" y="2684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ays of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00240" y="3218040"/>
            <a:ext cx="150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vidu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20960" y="2217600"/>
            <a:ext cx="143856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redi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05520" y="2362320"/>
            <a:ext cx="65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97160" y="174636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generalised vs. individu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0080" y="3218040"/>
            <a:ext cx="146988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3040" y="2227320"/>
            <a:ext cx="236196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etences from experiential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821200" y="2227320"/>
            <a:ext cx="175284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cational education certif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123720" y="23623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978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504040" y="4051440"/>
            <a:ext cx="2400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ssment of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242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4051440"/>
            <a:ext cx="19047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3040" y="5927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it 3/2006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24200" y="4367160"/>
            <a:ext cx="0" cy="62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20600" y="4989600"/>
            <a:ext cx="1905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lex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97800" y="436716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02320" y="4886280"/>
            <a:ext cx="2190600" cy="52020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reditation by examinati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2286000"/>
            <a:ext cx="6985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Everyone holding a specific certificate gets accreditation of modules without any further examination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University and vocational education institution assess equivalence of learning outcomes o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Accreditation is guaranteed by univers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68560" y="140328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99"/>
                </a:solidFill>
                <a:latin typeface="Arial"/>
              </a:rPr>
              <a:t>Grundprinzipi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Gener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68560" y="140328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im Qualifikationsverbund Nord-W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809880"/>
            <a:ext cx="2362320" cy="10576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veral vocational education certifica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‘Certified Business Administrator (CCI)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1905120"/>
            <a:ext cx="2133720" cy="1270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 „Business Administration in SME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ty of Oldenbu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209680" y="320040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Study Courses and Certificate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2120" y="3809880"/>
            <a:ext cx="2362320" cy="84456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veral vocational education certifica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.g. ‘Meister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02120" y="1905120"/>
            <a:ext cx="2133720" cy="13820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.Sc. „Systems Engineering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.Sc. „Systems Engineering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niversity of Br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69160" y="3200400"/>
            <a:ext cx="0" cy="458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 flipV="1">
            <a:off x="160020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79640" y="2158920"/>
            <a:ext cx="698472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676520"/>
            <a:ext cx="6984720" cy="48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4560" y="5219640"/>
            <a:ext cx="3772080" cy="276480"/>
          </a:xfrm>
          <a:prstGeom prst="rect">
            <a:avLst/>
          </a:prstGeom>
          <a:solidFill>
            <a:srgbClr val="a8c4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Vocational education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1160" y="1951200"/>
            <a:ext cx="2867040" cy="2764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udy module (e.g. 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724280" y="2362320"/>
            <a:ext cx="4114800" cy="2422080"/>
          </a:xfrm>
          <a:prstGeom prst="rect">
            <a:avLst/>
          </a:prstGeom>
          <a:solidFill>
            <a:srgbClr val="efe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6920" indent="-1969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Unicode MS"/>
              </a:rPr>
              <a:t>Assessment of equival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Experts asse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the content overlap between study module and certificate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 Unicode MS"/>
              </a:rPr>
              <a:t>assess the EQF levels of the competences acquired in the study module and in the vocational education programme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838080" y="2971800"/>
            <a:ext cx="1600200" cy="837000"/>
            <a:chOff x="838080" y="2971800"/>
            <a:chExt cx="1600200" cy="837000"/>
          </a:xfrm>
        </p:grpSpPr>
        <p:sp>
          <p:nvSpPr>
            <p:cNvPr id="192" name=""/>
            <p:cNvSpPr/>
            <p:nvPr/>
          </p:nvSpPr>
          <p:spPr>
            <a:xfrm>
              <a:off x="838080" y="2971800"/>
              <a:ext cx="16002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ntent domai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42400" y="3254400"/>
              <a:ext cx="1595520" cy="55440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V="1">
            <a:off x="3276720" y="22093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2905200" y="3412800"/>
            <a:ext cx="234720" cy="96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3505320" y="3412800"/>
            <a:ext cx="334800" cy="965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90920" y="2592360"/>
            <a:ext cx="1600200" cy="1662120"/>
            <a:chOff x="2590920" y="2592360"/>
            <a:chExt cx="1600200" cy="1662120"/>
          </a:xfrm>
        </p:grpSpPr>
        <p:sp>
          <p:nvSpPr>
            <p:cNvPr id="198" name=""/>
            <p:cNvSpPr/>
            <p:nvPr/>
          </p:nvSpPr>
          <p:spPr>
            <a:xfrm>
              <a:off x="2590920" y="2592360"/>
              <a:ext cx="16002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-Lev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95240" y="2874600"/>
              <a:ext cx="1595520" cy="13798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LI (Module Level Indicato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lation toEQ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everal domains of competence regard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Gener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770360" y="2906640"/>
            <a:ext cx="2982960" cy="1928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7400" y="2565360"/>
            <a:ext cx="2982960" cy="16045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87400" y="2170080"/>
            <a:ext cx="57801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29066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pe and Act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32781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65112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87400" y="4210200"/>
            <a:ext cx="2982960" cy="12801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46162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blem Solving Ski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50054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ation to Pract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48200" y="333684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48200" y="3749760"/>
            <a:ext cx="2286000" cy="30708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48200" y="4156200"/>
            <a:ext cx="2286000" cy="84456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wareness of ethical and soci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74720" y="124452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1052640"/>
            <a:ext cx="72723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opic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he general situation in Germany regarding academic and vocational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Non-traditional students in 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Why accredit prior learn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he German Federal Initiative Accreditation of Prior Learning for Academic Stud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 case study: The study programme ‘Bachelor of Business Administration in Small and Medium-Sized Enterprises’,</a:t>
            </a:r>
            <a:br>
              <a:rPr sz="1800"/>
            </a:b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University of Oldenb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buClr>
                <a:srgbClr val="000099"/>
              </a:buClr>
              <a:buSzPct val="1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17720" y="85104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  - Examples of Item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58760" y="200016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440" y="2000160"/>
            <a:ext cx="7988040" cy="257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440" y="1571760"/>
            <a:ext cx="798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82560" y="24987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ope and Act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2560" y="32590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irtical appreci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2560" y="39495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89240" y="24987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at least some in-depth knowledge on the actual  state of research within the domain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89240" y="325908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provides an awareness for the limits of the knowledge acquired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89240" y="39495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interdisciplinary topics, requiring knowledge from different domain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41440" y="4645080"/>
            <a:ext cx="7988040" cy="1928880"/>
            <a:chOff x="541440" y="4645080"/>
            <a:chExt cx="7988040" cy="1928880"/>
          </a:xfrm>
        </p:grpSpPr>
        <p:sp>
          <p:nvSpPr>
            <p:cNvPr id="229" name=""/>
            <p:cNvSpPr/>
            <p:nvPr/>
          </p:nvSpPr>
          <p:spPr>
            <a:xfrm>
              <a:off x="541440" y="4645080"/>
              <a:ext cx="7988040" cy="1928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2560" y="5143320"/>
              <a:ext cx="2285640" cy="3070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blem Solving 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2560" y="5904000"/>
              <a:ext cx="2285640" cy="3070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lation to Pract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9240" y="5143320"/>
              <a:ext cx="5068440" cy="459000"/>
            </a:xfrm>
            <a:prstGeom prst="rect">
              <a:avLst/>
            </a:prstGeom>
            <a:solidFill>
              <a:srgbClr val="f8f7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learning objectives or examination questions require comprehensive cognitive of practical skills.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189240" y="5904000"/>
              <a:ext cx="5068440" cy="276480"/>
            </a:xfrm>
            <a:prstGeom prst="rect">
              <a:avLst/>
            </a:prstGeom>
            <a:solidFill>
              <a:srgbClr val="f8f7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„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he module provides knowledge with immediate practical usability.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233600" y="6583320"/>
            <a:ext cx="495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, Oldenburg, 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58760" y="200016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1440" y="2060640"/>
            <a:ext cx="7988040" cy="29019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et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440" y="1665360"/>
            <a:ext cx="798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odule Level Ind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2560" y="255888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2560" y="3319560"/>
            <a:ext cx="228600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2560" y="4010040"/>
            <a:ext cx="2286000" cy="52020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wareness of ethical and social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89240" y="255888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odule contains learning objectives implying non-predictable change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89240" y="331956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Learners have demonstrated their ability to communicate their understanding of the domain to other learner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189240" y="4010040"/>
            <a:ext cx="5068800" cy="459000"/>
          </a:xfrm>
          <a:prstGeom prst="rect">
            <a:avLst/>
          </a:prstGeom>
          <a:solidFill>
            <a:srgbClr val="f8f7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en solving problems, the learners take into account interests of others and show solidarity with people affected by the solutions.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79560" y="9018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cales of the MLI  - Examples of Item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914400" y="2286000"/>
            <a:ext cx="69850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re are differences regarding the EQF levels between both educational program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se differences – when comparing content-similar modules – are minimal, always less than half a level-step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buClr>
                <a:srgbClr val="003399"/>
              </a:buClr>
              <a:buSzPct val="70000"/>
              <a:buFont typeface="Wingdings" charset="2"/>
              <a:buChar char=""/>
              <a:tabLst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3399"/>
                </a:solidFill>
                <a:latin typeface="Arial"/>
              </a:rPr>
              <a:t>There is no reason to deny accreditation based on these findings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284040"/>
                <a:tab algn="l" pos="66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36480" y="124452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Comparison Certified Business Administrator (CCI) /   - BA „Business Administration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414440" y="1692360"/>
            <a:ext cx="5875200" cy="4700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5720" y="82548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LI-based Comparison of Competences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(cost accoun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45200" y="1798560"/>
            <a:ext cx="13953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ial/ethic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1788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chelor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680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ocational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5680" y="1641600"/>
            <a:ext cx="5895720" cy="47163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85720" y="825480"/>
            <a:ext cx="795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MLI-based Comparison of Competences</a:t>
            </a:r>
            <a:br>
              <a:rPr sz="2400"/>
            </a:b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(all modules /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4880" y="1747800"/>
            <a:ext cx="1395360" cy="115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ritical appre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nterdisciplina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ut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ocial/ethical aspe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17880" y="5824440"/>
            <a:ext cx="21650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achelor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76800" y="5824440"/>
            <a:ext cx="212724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ocational program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97800" y="2685960"/>
            <a:ext cx="0" cy="5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24200" y="268452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ays of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00240" y="3218040"/>
            <a:ext cx="150804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dividu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20960" y="2217600"/>
            <a:ext cx="1438560" cy="307080"/>
          </a:xfrm>
          <a:prstGeom prst="rect">
            <a:avLst/>
          </a:prstGeom>
          <a:solidFill>
            <a:srgbClr val="efe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redit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05520" y="2362320"/>
            <a:ext cx="65088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97160" y="1746360"/>
            <a:ext cx="575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99"/>
                </a:solidFill>
                <a:latin typeface="Arial"/>
              </a:rPr>
              <a:t>generalised vs. individuali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50080" y="3218040"/>
            <a:ext cx="146988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enerali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3040" y="2227320"/>
            <a:ext cx="2361960" cy="45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etences from experiential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21200" y="2227320"/>
            <a:ext cx="1752840" cy="733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Vocational education certific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3123720" y="2362320"/>
            <a:ext cx="685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978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04040" y="4051440"/>
            <a:ext cx="2400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sessment of equival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24200" y="353232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4051440"/>
            <a:ext cx="190476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3040" y="592776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it 3/2006 mögl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924200" y="4367160"/>
            <a:ext cx="0" cy="622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20600" y="4989600"/>
            <a:ext cx="1905120" cy="30708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lex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97800" y="4367160"/>
            <a:ext cx="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2320" y="4886280"/>
            <a:ext cx="2190600" cy="520200"/>
          </a:xfrm>
          <a:prstGeom prst="rect">
            <a:avLst/>
          </a:prstGeom>
          <a:solidFill>
            <a:srgbClr val="dde8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creditation by examination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43800" y="3048120"/>
            <a:ext cx="0" cy="144756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3504960"/>
            <a:ext cx="0" cy="10666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0" cy="152388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90200" y="5105520"/>
            <a:ext cx="68580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1828800"/>
            <a:ext cx="220968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delivers portfolio (evidence of experiential learn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90840" y="1828800"/>
            <a:ext cx="2210040" cy="1676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solves complex task on her/his own (without supervis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1828800"/>
            <a:ext cx="220968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cturer assesses task based on competence-oriented standa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4572000"/>
            <a:ext cx="2362320" cy="1066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ission to take part in one ore more examinations (one examination per modu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00800" y="4495680"/>
            <a:ext cx="2362320" cy="12956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f successful: accreditation of credits for respective module(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2362320"/>
            <a:ext cx="609840" cy="0"/>
          </a:xfrm>
          <a:prstGeom prst="line">
            <a:avLst/>
          </a:prstGeom>
          <a:ln w="572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4572000"/>
            <a:ext cx="2361960" cy="12193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udent receives study material and a complex task for the respective module(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1371600"/>
            <a:ext cx="5753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700" spc="-1" strike="noStrike">
                <a:solidFill>
                  <a:srgbClr val="003399"/>
                </a:solidFill>
                <a:latin typeface="Arial"/>
              </a:rPr>
              <a:t>Ablau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Individualised Accreditation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paper17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6705720" y="762120"/>
            <a:ext cx="1888920" cy="123480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914400" y="1955880"/>
            <a:ext cx="3171600" cy="1392840"/>
            <a:chOff x="914400" y="1955880"/>
            <a:chExt cx="3171600" cy="1392840"/>
          </a:xfrm>
        </p:grpSpPr>
        <p:sp>
          <p:nvSpPr>
            <p:cNvPr id="304" name=""/>
            <p:cNvSpPr/>
            <p:nvPr/>
          </p:nvSpPr>
          <p:spPr>
            <a:xfrm>
              <a:off x="914400" y="19558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23400" y="2238480"/>
              <a:ext cx="3161160" cy="111024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Leader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nagement tasks  in a te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espons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Autonom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914400" y="3632040"/>
            <a:ext cx="3171600" cy="1019520"/>
            <a:chOff x="914400" y="3632040"/>
            <a:chExt cx="3171600" cy="1019520"/>
          </a:xfrm>
        </p:grpSpPr>
        <p:sp>
          <p:nvSpPr>
            <p:cNvPr id="307" name=""/>
            <p:cNvSpPr/>
            <p:nvPr/>
          </p:nvSpPr>
          <p:spPr>
            <a:xfrm>
              <a:off x="914400" y="363204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ve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3400" y="3914640"/>
              <a:ext cx="3161160" cy="7369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on of ideas, problems, and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ethods (e.g. present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876920" y="2108160"/>
            <a:ext cx="2867040" cy="11102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fere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fficial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3556080"/>
            <a:ext cx="2867040" cy="11102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ritten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14400" y="4927680"/>
            <a:ext cx="3171600" cy="1114920"/>
            <a:chOff x="914400" y="4927680"/>
            <a:chExt cx="3171600" cy="1114920"/>
          </a:xfrm>
        </p:grpSpPr>
        <p:sp>
          <p:nvSpPr>
            <p:cNvPr id="312" name=""/>
            <p:cNvSpPr/>
            <p:nvPr/>
          </p:nvSpPr>
          <p:spPr>
            <a:xfrm>
              <a:off x="914400" y="49276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3400" y="521028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ving complex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actical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eativity and Inno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4876920" y="5079960"/>
            <a:ext cx="2867040" cy="4590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sentation of three examples from professional exper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4114440" y="271764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4114440" y="408924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4114440" y="530856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914400" y="2590920"/>
            <a:ext cx="3171600" cy="1114920"/>
            <a:chOff x="914400" y="2590920"/>
            <a:chExt cx="3171600" cy="1114920"/>
          </a:xfrm>
        </p:grpSpPr>
        <p:sp>
          <p:nvSpPr>
            <p:cNvPr id="323" name=""/>
            <p:cNvSpPr/>
            <p:nvPr/>
          </p:nvSpPr>
          <p:spPr>
            <a:xfrm>
              <a:off x="914400" y="259092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3400" y="287352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omain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itical apprec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Interdisciplinary 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914400" y="4267080"/>
            <a:ext cx="3171600" cy="1114920"/>
            <a:chOff x="914400" y="4267080"/>
            <a:chExt cx="3171600" cy="1114920"/>
          </a:xfrm>
        </p:grpSpPr>
        <p:sp>
          <p:nvSpPr>
            <p:cNvPr id="326" name=""/>
            <p:cNvSpPr/>
            <p:nvPr/>
          </p:nvSpPr>
          <p:spPr>
            <a:xfrm>
              <a:off x="914400" y="426708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EQF: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3400" y="4549680"/>
              <a:ext cx="3161160" cy="83232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lving complex probl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actical 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reativity and Innov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4876920" y="2743200"/>
            <a:ext cx="2867040" cy="10148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ing theory,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itical use of theory, mod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nowledge at ‘interfaces’ to other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76920" y="4419720"/>
            <a:ext cx="2867040" cy="91944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plication of domain-specific methods to the practica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plication of models and theory to the practical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14440" y="335268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114440" y="487692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391520" y="838080"/>
            <a:ext cx="963360" cy="1268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Complex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2736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876920" y="2438280"/>
            <a:ext cx="2867040" cy="5544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fessional adequacy of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rehen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114440" y="2819520"/>
            <a:ext cx="76212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91520" y="838080"/>
            <a:ext cx="963360" cy="126864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990720" y="2438280"/>
            <a:ext cx="3171240" cy="741600"/>
            <a:chOff x="990720" y="2438280"/>
            <a:chExt cx="3171240" cy="741600"/>
          </a:xfrm>
        </p:grpSpPr>
        <p:sp>
          <p:nvSpPr>
            <p:cNvPr id="341" name=""/>
            <p:cNvSpPr/>
            <p:nvPr/>
          </p:nvSpPr>
          <p:spPr>
            <a:xfrm>
              <a:off x="990720" y="2438280"/>
              <a:ext cx="317124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ive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99720" y="2720880"/>
              <a:ext cx="3160800" cy="45900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mmunicate ideas, problems, 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4906800" y="3564000"/>
            <a:ext cx="2867040" cy="459000"/>
          </a:xfrm>
          <a:prstGeom prst="rect">
            <a:avLst/>
          </a:prstGeom>
          <a:solidFill>
            <a:srgbClr val="d5e4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king people affected by the Problem / the solution into ac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145040" y="3792600"/>
            <a:ext cx="761760" cy="0"/>
          </a:xfrm>
          <a:prstGeom prst="line">
            <a:avLst/>
          </a:prstGeom>
          <a:ln w="57240">
            <a:solidFill>
              <a:srgbClr val="00866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020600" y="3463920"/>
            <a:ext cx="3171600" cy="559080"/>
            <a:chOff x="1020600" y="3463920"/>
            <a:chExt cx="3171600" cy="559080"/>
          </a:xfrm>
        </p:grpSpPr>
        <p:sp>
          <p:nvSpPr>
            <p:cNvPr id="346" name=""/>
            <p:cNvSpPr/>
            <p:nvPr/>
          </p:nvSpPr>
          <p:spPr>
            <a:xfrm>
              <a:off x="1020600" y="3463920"/>
              <a:ext cx="3171600" cy="276480"/>
            </a:xfrm>
            <a:prstGeom prst="rect">
              <a:avLst/>
            </a:prstGeom>
            <a:solidFill>
              <a:srgbClr val="dde8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ocial Compet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29600" y="3746520"/>
              <a:ext cx="3161160" cy="276480"/>
            </a:xfrm>
            <a:prstGeom prst="rect">
              <a:avLst/>
            </a:prstGeom>
            <a:solidFill>
              <a:srgbClr val="efee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aking others into accou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8360" y="96516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Complex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The Situation 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latively few university graduat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Compared to other countries, e.g. within the OECD, the percentage of university graduates within the population is relatively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international innovation scoring systems – e.g. the European TrendChart on Innovation – Germany ranks poorly regarding the availability of Science &amp; Technology gradu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Sophisticated vocational education system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The vocational education system has a long tradition in Germany, and provides high standards of education across a broad range of prof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Germany, graduates of the higher levels of the vocational education system (e.g. ‘Meister’, ‘Techniker’, ‘Fachwirte’) occupy positions regarded as adequate for academically educated staff (e.g. Bachelors of Engineering)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020600" y="149400"/>
            <a:ext cx="507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58760" y="2170080"/>
            <a:ext cx="698508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025720" y="1673280"/>
            <a:ext cx="6095880" cy="499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53" name="" descr="Uni-Info Kopf"/>
          <p:cNvPicPr/>
          <p:nvPr/>
        </p:nvPicPr>
        <p:blipFill>
          <a:blip r:embed="rId2"/>
          <a:stretch/>
        </p:blipFill>
        <p:spPr>
          <a:xfrm>
            <a:off x="2025720" y="758880"/>
            <a:ext cx="5715000" cy="9144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6739920" y="6235560"/>
            <a:ext cx="234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 Carl-von-Ossietzky-Un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ldenbu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lfgang Müskens,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648320" y="3301920"/>
            <a:ext cx="3365280" cy="685800"/>
          </a:xfrm>
          <a:prstGeom prst="wedgeRoundRectCallout">
            <a:avLst>
              <a:gd name="adj1" fmla="val -65611"/>
              <a:gd name="adj2" fmla="val 110648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 entrepreneur as stu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Comic Sans MS"/>
              </a:rPr>
              <a:t>Thank you for your attention!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http://ankom.his.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29160" y="417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ankom_fin Kopie" descr=""/>
          <p:cNvPicPr/>
          <p:nvPr/>
        </p:nvPicPr>
        <p:blipFill>
          <a:blip r:embed="rId1"/>
          <a:stretch/>
        </p:blipFill>
        <p:spPr>
          <a:xfrm>
            <a:off x="2987640" y="2421000"/>
            <a:ext cx="295272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52440" y="1989000"/>
          <a:ext cx="846756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989000"/>
                    <a:ext cx="846756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95280" y="1052640"/>
            <a:ext cx="8424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Non-traditional Stud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(in % of all new stud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49840" y="5805360"/>
            <a:ext cx="122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ource: Eurostud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Problems (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vocational education graduat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Despite the relatively high level of education, graduates of the vocational training system may find themselves in ‘dead ends’ regarding their care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.g. ‘Meisters’ wanting to move up to higher levels of management might find this to be difficult or impossible without an academic deg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companies/employer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Especially in areas requiring high levels of knowledge, and facing rapid changes in knowledge development (e.g. ‘High-tech’ domains) encounter difficulties in personne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ditional suppliers of higher-level and continuing vocational training are sometimes not able to provide the education required, while academic institutions do not offer these educational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Black"/>
              </a:rPr>
              <a:t>Problems 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universities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t present: No high-priority actual problems requiring AP(E)L or other means to increase permeability for non-traditional students.</a:t>
            </a:r>
            <a:br>
              <a:rPr sz="1600"/>
            </a:b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ception: Acquisition of external funds, but the (commercial) provision of educational services is not a strong part of German academic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 the future: Increasing problems in recruiting students, especially in the technological departments, and at least in some types of universities/polytechn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Regarding society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e evident lack of permeability for graduates of the vocational education system into academic education violates objectives of educational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4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 non-permeability also blocks pathways to develop the educational standard – knowledge and skills – of working people in Germany, the most important resource we h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0972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Black"/>
              </a:rPr>
              <a:t>Why accredit prior lear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260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Global objectiv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 Improve the conditions for continuing, life-long competence develop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25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aintain and develop competitiveness of the German national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Maintain and develop opportunities for individual and profession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repare for demographic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576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99"/>
                </a:solidFill>
                <a:uFillTx/>
                <a:latin typeface="Arial Black"/>
              </a:rPr>
              <a:t>Specific objectives of the initiativ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349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mprovement of practically relevant permeability between vocational and academic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Accreditation and dynamisation of vocational compe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evelopment of opportunities for recruiting and developing highly qualified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520560" y="757080"/>
            <a:ext cx="8528040" cy="6075360"/>
            <a:chOff x="520560" y="757080"/>
            <a:chExt cx="8528040" cy="6075360"/>
          </a:xfrm>
        </p:grpSpPr>
        <p:grpSp>
          <p:nvGrpSpPr>
            <p:cNvPr id="66" name=""/>
            <p:cNvGrpSpPr/>
            <p:nvPr/>
          </p:nvGrpSpPr>
          <p:grpSpPr>
            <a:xfrm>
              <a:off x="520560" y="757080"/>
              <a:ext cx="8528040" cy="6075360"/>
              <a:chOff x="520560" y="757080"/>
              <a:chExt cx="8528040" cy="6075360"/>
            </a:xfrm>
          </p:grpSpPr>
          <p:sp>
            <p:nvSpPr>
              <p:cNvPr id="67" name=""/>
              <p:cNvSpPr/>
              <p:nvPr/>
            </p:nvSpPr>
            <p:spPr>
              <a:xfrm>
                <a:off x="520560" y="5969160"/>
                <a:ext cx="7010640" cy="863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92360" y="757080"/>
                <a:ext cx="7356240" cy="606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" name=""/>
            <p:cNvSpPr/>
            <p:nvPr/>
          </p:nvSpPr>
          <p:spPr>
            <a:xfrm>
              <a:off x="6629400" y="3422520"/>
              <a:ext cx="219060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Accompanying Resear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18240" y="4356000"/>
              <a:ext cx="1486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Programme Agenc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72200" y="2317680"/>
              <a:ext cx="2635200" cy="54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gional development proje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or the accreditation of prior learn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for academic studie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68840" y="1231920"/>
              <a:ext cx="310536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ccreditation of prior le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or academic studies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0600" y="819000"/>
              <a:ext cx="87012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Federal Minist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of Edu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"/>
                </a:rPr>
                <a:t>and Resear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36200">
              <a:off x="3274920" y="5965560"/>
              <a:ext cx="766080" cy="3373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1763640" y="758880"/>
            <a:ext cx="5641920" cy="5410080"/>
            <a:chOff x="1763640" y="758880"/>
            <a:chExt cx="5641920" cy="541008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1763640" y="758880"/>
              <a:ext cx="564192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1979640" y="765000"/>
              <a:ext cx="12240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276720" y="1820880"/>
            <a:ext cx="5626080" cy="1506600"/>
            <a:chOff x="3276720" y="1820880"/>
            <a:chExt cx="5626080" cy="1506600"/>
          </a:xfrm>
        </p:grpSpPr>
        <p:sp>
          <p:nvSpPr>
            <p:cNvPr id="79" name=""/>
            <p:cNvSpPr/>
            <p:nvPr/>
          </p:nvSpPr>
          <p:spPr>
            <a:xfrm>
              <a:off x="5148360" y="2349360"/>
              <a:ext cx="1439640" cy="28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76720" y="2637000"/>
              <a:ext cx="79056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95640" y="1820880"/>
              <a:ext cx="86220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43800" y="238752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ocial 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ducat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1" idx="3"/>
              <a:endCxn id="82" idx="1"/>
            </p:cNvCxnSpPr>
            <p:nvPr/>
          </p:nvCxnSpPr>
          <p:spPr>
            <a:xfrm>
              <a:off x="4870440" y="1964880"/>
              <a:ext cx="2674080" cy="893160"/>
            </a:xfrm>
            <a:prstGeom prst="bentConnector3">
              <a:avLst>
                <a:gd name="adj1" fmla="val 77729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84" name=""/>
            <p:cNvCxnSpPr>
              <a:stCxn id="80" idx="3"/>
              <a:endCxn id="82" idx="1"/>
            </p:cNvCxnSpPr>
            <p:nvPr/>
          </p:nvCxnSpPr>
          <p:spPr>
            <a:xfrm>
              <a:off x="4079880" y="2781360"/>
              <a:ext cx="3464640" cy="76680"/>
            </a:xfrm>
            <a:prstGeom prst="bentConnector3">
              <a:avLst>
                <a:gd name="adj1" fmla="val 49807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85" name=""/>
            <p:cNvCxnSpPr>
              <a:stCxn id="79" idx="3"/>
              <a:endCxn id="82" idx="1"/>
            </p:cNvCxnSpPr>
            <p:nvPr/>
          </p:nvCxnSpPr>
          <p:spPr>
            <a:xfrm>
              <a:off x="6600600" y="2494080"/>
              <a:ext cx="943560" cy="364320"/>
            </a:xfrm>
            <a:prstGeom prst="bentConnector3">
              <a:avLst>
                <a:gd name="adj1" fmla="val 37022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86" name=""/>
          <p:cNvGrpSpPr/>
          <p:nvPr/>
        </p:nvGrpSpPr>
        <p:grpSpPr>
          <a:xfrm>
            <a:off x="876240" y="1333440"/>
            <a:ext cx="5686560" cy="1994040"/>
            <a:chOff x="876240" y="1333440"/>
            <a:chExt cx="5686560" cy="1994040"/>
          </a:xfrm>
        </p:grpSpPr>
        <p:sp>
          <p:nvSpPr>
            <p:cNvPr id="87" name=""/>
            <p:cNvSpPr/>
            <p:nvPr/>
          </p:nvSpPr>
          <p:spPr>
            <a:xfrm>
              <a:off x="876240" y="161280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conomic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nager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234880" y="1333440"/>
              <a:ext cx="4327920" cy="1994040"/>
              <a:chOff x="2234880" y="1333440"/>
              <a:chExt cx="4327920" cy="1994040"/>
            </a:xfrm>
          </p:grpSpPr>
          <p:cxnSp>
            <p:nvCxnSpPr>
              <p:cNvPr id="89" name=""/>
              <p:cNvCxnSpPr>
                <a:stCxn id="87" idx="3"/>
                <a:endCxn id="90" idx="1"/>
              </p:cNvCxnSpPr>
              <p:nvPr/>
            </p:nvCxnSpPr>
            <p:spPr>
              <a:xfrm flipV="1">
                <a:off x="2234880" y="1477080"/>
                <a:ext cx="2431080" cy="605880"/>
              </a:xfrm>
              <a:prstGeom prst="bentConnector3">
                <a:avLst>
                  <a:gd name="adj1" fmla="val 16587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4678200" y="1333440"/>
                <a:ext cx="188460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043080" y="1859040"/>
                <a:ext cx="86220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" name=""/>
              <p:cNvCxnSpPr>
                <a:stCxn id="87" idx="3"/>
                <a:endCxn id="91" idx="1"/>
              </p:cNvCxnSpPr>
              <p:nvPr/>
            </p:nvCxnSpPr>
            <p:spPr>
              <a:xfrm flipV="1">
                <a:off x="2234880" y="2002680"/>
                <a:ext cx="795960" cy="80280"/>
              </a:xfrm>
              <a:prstGeom prst="bentConnector3">
                <a:avLst>
                  <a:gd name="adj1" fmla="val 50678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3" name=""/>
              <p:cNvSpPr/>
              <p:nvPr/>
            </p:nvSpPr>
            <p:spPr>
              <a:xfrm>
                <a:off x="2662200" y="3040200"/>
                <a:ext cx="121752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" name=""/>
              <p:cNvCxnSpPr>
                <a:stCxn id="87" idx="3"/>
                <a:endCxn id="93" idx="1"/>
              </p:cNvCxnSpPr>
              <p:nvPr/>
            </p:nvCxnSpPr>
            <p:spPr>
              <a:xfrm>
                <a:off x="2234880" y="2082960"/>
                <a:ext cx="415080" cy="1102320"/>
              </a:xfrm>
              <a:prstGeom prst="bentConnector3">
                <a:avLst>
                  <a:gd name="adj1" fmla="val 51302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  <p:sp>
            <p:nvSpPr>
              <p:cNvPr id="95" name=""/>
              <p:cNvSpPr/>
              <p:nvPr/>
            </p:nvSpPr>
            <p:spPr>
              <a:xfrm>
                <a:off x="3259080" y="2633760"/>
                <a:ext cx="811440" cy="287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6" name=""/>
              <p:cNvCxnSpPr>
                <a:stCxn id="87" idx="3"/>
                <a:endCxn id="95" idx="1"/>
              </p:cNvCxnSpPr>
              <p:nvPr/>
            </p:nvCxnSpPr>
            <p:spPr>
              <a:xfrm>
                <a:off x="2234880" y="2082600"/>
                <a:ext cx="1011960" cy="695520"/>
              </a:xfrm>
              <a:prstGeom prst="bentConnector3">
                <a:avLst>
                  <a:gd name="adj1" fmla="val 21637"/>
                </a:avLst>
              </a:prstGeom>
              <a:ln w="25560">
                <a:solidFill>
                  <a:srgbClr val="ff0000"/>
                </a:solidFill>
                <a:miter/>
              </a:ln>
            </p:spPr>
          </p:cxnSp>
        </p:grpSp>
      </p:grpSp>
      <p:grpSp>
        <p:nvGrpSpPr>
          <p:cNvPr id="97" name=""/>
          <p:cNvGrpSpPr/>
          <p:nvPr/>
        </p:nvGrpSpPr>
        <p:grpSpPr>
          <a:xfrm>
            <a:off x="3395520" y="2557440"/>
            <a:ext cx="5519880" cy="2649600"/>
            <a:chOff x="3395520" y="2557440"/>
            <a:chExt cx="5519880" cy="2649600"/>
          </a:xfrm>
        </p:grpSpPr>
        <p:sp>
          <p:nvSpPr>
            <p:cNvPr id="98" name=""/>
            <p:cNvSpPr/>
            <p:nvPr/>
          </p:nvSpPr>
          <p:spPr>
            <a:xfrm>
              <a:off x="3395520" y="4203720"/>
              <a:ext cx="94464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70440" y="2557440"/>
              <a:ext cx="102708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56400" y="426708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1" name=""/>
            <p:cNvCxnSpPr>
              <a:stCxn id="99" idx="3"/>
              <a:endCxn id="100" idx="1"/>
            </p:cNvCxnSpPr>
            <p:nvPr/>
          </p:nvCxnSpPr>
          <p:spPr>
            <a:xfrm>
              <a:off x="5009760" y="2701800"/>
              <a:ext cx="2547000" cy="2036160"/>
            </a:xfrm>
            <a:prstGeom prst="bentConnector3">
              <a:avLst>
                <a:gd name="adj1" fmla="val 49689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02" name=""/>
            <p:cNvCxnSpPr>
              <a:stCxn id="98" idx="3"/>
              <a:endCxn id="100" idx="1"/>
            </p:cNvCxnSpPr>
            <p:nvPr/>
          </p:nvCxnSpPr>
          <p:spPr>
            <a:xfrm>
              <a:off x="4352400" y="4347720"/>
              <a:ext cx="3204360" cy="389880"/>
            </a:xfrm>
            <a:prstGeom prst="bentConnector3">
              <a:avLst>
                <a:gd name="adj1" fmla="val 49741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  <p:grpSp>
        <p:nvGrpSpPr>
          <p:cNvPr id="103" name=""/>
          <p:cNvGrpSpPr/>
          <p:nvPr/>
        </p:nvGrpSpPr>
        <p:grpSpPr>
          <a:xfrm>
            <a:off x="706320" y="2374920"/>
            <a:ext cx="4476960" cy="2832120"/>
            <a:chOff x="706320" y="2374920"/>
            <a:chExt cx="4476960" cy="2832120"/>
          </a:xfrm>
        </p:grpSpPr>
        <p:sp>
          <p:nvSpPr>
            <p:cNvPr id="104" name=""/>
            <p:cNvSpPr/>
            <p:nvPr/>
          </p:nvSpPr>
          <p:spPr>
            <a:xfrm>
              <a:off x="3797280" y="2374920"/>
              <a:ext cx="944640" cy="287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95880" y="3624120"/>
              <a:ext cx="887400" cy="2876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6320" y="4267080"/>
              <a:ext cx="1359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profess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MEM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" name=""/>
            <p:cNvCxnSpPr>
              <a:stCxn id="105" idx="1"/>
              <a:endCxn id="106" idx="3"/>
            </p:cNvCxnSpPr>
            <p:nvPr/>
          </p:nvCxnSpPr>
          <p:spPr>
            <a:xfrm flipV="1" rot="10800000">
              <a:off x="2064600" y="3768480"/>
              <a:ext cx="2218320" cy="969120"/>
            </a:xfrm>
            <a:prstGeom prst="bentConnector3">
              <a:avLst>
                <a:gd name="adj1" fmla="val 80522"/>
              </a:avLst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08" name=""/>
            <p:cNvCxnSpPr/>
            <p:nvPr/>
          </p:nvCxnSpPr>
          <p:spPr>
            <a:xfrm flipV="1" rot="10800000">
              <a:off x="2077200" y="2518200"/>
              <a:ext cx="1720080" cy="2218680"/>
            </a:xfrm>
            <a:prstGeom prst="bentConnector3">
              <a:avLst>
                <a:gd name="adj1" fmla="val 75884"/>
              </a:avLst>
            </a:prstGeom>
            <a:ln w="255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08:32:57Z</dcterms:created>
  <dc:creator>Minks</dc:creator>
  <dc:description/>
  <dc:language>en-US</dc:language>
  <cp:lastModifiedBy>hartmann</cp:lastModifiedBy>
  <dcterms:modified xsi:type="dcterms:W3CDTF">2007-06-04T08:50:00Z</dcterms:modified>
  <cp:revision>210</cp:revision>
  <dc:subject/>
  <dc:title>PowerPoint-Präsentation</dc:title>
</cp:coreProperties>
</file>