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4804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4680" y="4711320"/>
            <a:ext cx="4981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54E9-C795-4867-93C7-609206B34E4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04680" y="4711320"/>
            <a:ext cx="4981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s hinzuzufüg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4680" y="4711320"/>
            <a:ext cx="4981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s hinzuzufüg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04680" y="4711320"/>
            <a:ext cx="4981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s hinzuzufüg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04680" y="4711320"/>
            <a:ext cx="4981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s hinzuzufüg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8612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236000" y="155520"/>
            <a:ext cx="1228680" cy="7524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58960" y="446040"/>
            <a:ext cx="652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Accreditation of Prior Learning for Academic Studies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50760" y="695160"/>
            <a:ext cx="6336000" cy="36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74600" y="6308640"/>
            <a:ext cx="6521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666666"/>
                </a:solidFill>
                <a:latin typeface="NeueDemos-Bold"/>
              </a:rPr>
              <a:t>Presidency Conference “Realising the European Learning Are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6666"/>
                </a:solidFill>
                <a:latin typeface="NeueDemos"/>
              </a:rPr>
              <a:t>Munich, 4 – 5 June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7800" y="6165720"/>
            <a:ext cx="7469280" cy="73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62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NeueDemos-Italic"/>
              </a:rPr>
              <a:t>The Accreditation of Prior Learning in Germany</a:t>
            </a:r>
            <a:br>
              <a:rPr sz="2800"/>
            </a:br>
            <a:r>
              <a:rPr b="0" lang="en-GB" sz="2800" spc="-1" strike="noStrike">
                <a:solidFill>
                  <a:srgbClr val="cc3300"/>
                </a:solidFill>
                <a:latin typeface="NeueDemos-Italic"/>
              </a:rPr>
              <a:t>A Federal Project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900000" y="1125360"/>
          <a:ext cx="7272360" cy="4803840"/>
        </p:xfrm>
        <a:graphic>
          <a:graphicData uri="http://schemas.openxmlformats.org/drawingml/2006/table">
            <a:tbl>
              <a:tblPr/>
              <a:tblGrid>
                <a:gridCol w="2424240"/>
                <a:gridCol w="2424240"/>
                <a:gridCol w="242388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ing Outc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ssessment of Equi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ccreditation Proced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nception / 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on of learning outcomes from academic studies, vocational education, and practical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ethodology to assess equivalence of outcomes across these learning environ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ign of concrete accreditation procedure at university / polytech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610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e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Which strategies and specific steps are necessary / probably successful for the implementation of these three ‘building blocks’ in practic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Fitness for Practi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931320" y="1803240"/>
            <a:ext cx="1800" cy="3733920"/>
          </a:xfrm>
          <a:prstGeom prst="line">
            <a:avLst/>
          </a:prstGeom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31320" y="5537160"/>
            <a:ext cx="1800" cy="38160"/>
          </a:xfrm>
          <a:prstGeom prst="line">
            <a:avLst/>
          </a:prstGeom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31320" y="5486400"/>
            <a:ext cx="1800" cy="50760"/>
          </a:xfrm>
          <a:prstGeom prst="line">
            <a:avLst/>
          </a:prstGeom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42920" y="981000"/>
            <a:ext cx="7416360" cy="4896000"/>
            <a:chOff x="1042920" y="981000"/>
            <a:chExt cx="7416360" cy="4896000"/>
          </a:xfrm>
        </p:grpSpPr>
        <p:sp>
          <p:nvSpPr>
            <p:cNvPr id="114" name=""/>
            <p:cNvSpPr/>
            <p:nvPr/>
          </p:nvSpPr>
          <p:spPr>
            <a:xfrm>
              <a:off x="1042920" y="981000"/>
              <a:ext cx="7416360" cy="4896000"/>
            </a:xfrm>
            <a:prstGeom prst="ellipse">
              <a:avLst/>
            </a:prstGeom>
            <a:solidFill>
              <a:srgbClr val="000080"/>
            </a:solidFill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61440" y="2347920"/>
              <a:ext cx="4798440" cy="3097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15560" y="1643040"/>
              <a:ext cx="292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99"/>
                  </a:solidFill>
                  <a:latin typeface="Arial"/>
                </a:rPr>
                <a:t>Competenc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89440" y="2965320"/>
              <a:ext cx="202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ff33"/>
                  </a:solidFill>
                  <a:latin typeface="Arial"/>
                </a:rPr>
                <a:t>Qualif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88320" y="3573360"/>
              <a:ext cx="2399040" cy="158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76760" y="3921120"/>
              <a:ext cx="14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704920" y="5877000"/>
            <a:ext cx="32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cc"/>
                </a:solidFill>
                <a:latin typeface="Arial"/>
              </a:rPr>
              <a:t>Source: John Erpenbeck, Presentation Berlin 7.4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0000" y="1550880"/>
            <a:ext cx="727236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Political hurd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ederalism: Responsibilities for vocational and academic education divided between federal level and ‘Länder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Historically developed structural hurdles between academic and vocational education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Lack of mutual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Language b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Lack of knowledge about the oth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390680"/>
            <a:ext cx="72723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Hurdles on the university si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ear of losing ‚monopoly‘ in academic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Lack of interest because of presently high number of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ducation – especially continuing education – is not regarded as crucial for universities` reputation / ‘excellenc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High demand of resources for study programme re-design (from traditional Diploma to Bachelor/M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Low acceptance at accreditation ag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30520" y="1608120"/>
            <a:ext cx="5229000" cy="437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9381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Black"/>
              </a:rPr>
              <a:t>Case study: North-Western Project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000680" y="2832120"/>
            <a:ext cx="2361960" cy="1113120"/>
            <a:chOff x="4000680" y="2832120"/>
            <a:chExt cx="2361960" cy="1113120"/>
          </a:xfrm>
        </p:grpSpPr>
        <p:sp>
          <p:nvSpPr>
            <p:cNvPr id="127" name=""/>
            <p:cNvSpPr/>
            <p:nvPr/>
          </p:nvSpPr>
          <p:spPr>
            <a:xfrm>
              <a:off x="4000680" y="3486240"/>
              <a:ext cx="1242720" cy="459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vO Uni Oldenbu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00680" y="3201840"/>
              <a:ext cx="714240" cy="276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79960" y="2832120"/>
              <a:ext cx="1282680" cy="571320"/>
            </a:xfrm>
            <a:prstGeom prst="wedgeRoundRectCallout">
              <a:avLst>
                <a:gd name="adj1" fmla="val -43689"/>
                <a:gd name="adj2" fmla="val 73888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University of Oldenbur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411960" y="2959200"/>
            <a:ext cx="1805040" cy="1301760"/>
            <a:chOff x="6411960" y="2959200"/>
            <a:chExt cx="1805040" cy="1301760"/>
          </a:xfrm>
        </p:grpSpPr>
        <p:sp>
          <p:nvSpPr>
            <p:cNvPr id="131" name=""/>
            <p:cNvSpPr/>
            <p:nvPr/>
          </p:nvSpPr>
          <p:spPr>
            <a:xfrm>
              <a:off x="6411960" y="3619440"/>
              <a:ext cx="928800" cy="641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Uni Bremen / IT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2959200"/>
              <a:ext cx="1282680" cy="571320"/>
            </a:xfrm>
            <a:prstGeom prst="wedgeRoundRectCallout">
              <a:avLst>
                <a:gd name="adj1" fmla="val -26856"/>
                <a:gd name="adj2" fmla="val 82777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University of Brem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451560" y="4359240"/>
            <a:ext cx="2006640" cy="1546200"/>
            <a:chOff x="6451560" y="4359240"/>
            <a:chExt cx="2006640" cy="1546200"/>
          </a:xfrm>
        </p:grpSpPr>
        <p:sp>
          <p:nvSpPr>
            <p:cNvPr id="134" name=""/>
            <p:cNvSpPr/>
            <p:nvPr/>
          </p:nvSpPr>
          <p:spPr>
            <a:xfrm>
              <a:off x="6451560" y="4359240"/>
              <a:ext cx="117648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rbeitnehmer-kammer Brem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75520" y="5118120"/>
              <a:ext cx="1282680" cy="787320"/>
            </a:xfrm>
            <a:prstGeom prst="wedgeRoundRectCallout">
              <a:avLst>
                <a:gd name="adj1" fmla="val -38736"/>
                <a:gd name="adj2" fmla="val -72986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mployees´Chamber Brem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62120" y="2438280"/>
            <a:ext cx="3017880" cy="1607040"/>
            <a:chOff x="762120" y="2438280"/>
            <a:chExt cx="3017880" cy="1607040"/>
          </a:xfrm>
        </p:grpSpPr>
        <p:sp>
          <p:nvSpPr>
            <p:cNvPr id="137" name=""/>
            <p:cNvSpPr/>
            <p:nvPr/>
          </p:nvSpPr>
          <p:spPr>
            <a:xfrm>
              <a:off x="2409840" y="3586320"/>
              <a:ext cx="137016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HK Ostfriesland und Papenbu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20" y="2438280"/>
              <a:ext cx="1282680" cy="1320840"/>
            </a:xfrm>
            <a:prstGeom prst="wedgeRoundRectCallout">
              <a:avLst>
                <a:gd name="adj1" fmla="val 92944"/>
                <a:gd name="adj2" fmla="val 34375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hamber of Commerce and Industry East Frisia / Papenbur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74720" y="4065480"/>
            <a:ext cx="4468680" cy="1306800"/>
            <a:chOff x="774720" y="4065480"/>
            <a:chExt cx="4468680" cy="1306800"/>
          </a:xfrm>
        </p:grpSpPr>
        <p:sp>
          <p:nvSpPr>
            <p:cNvPr id="140" name=""/>
            <p:cNvSpPr/>
            <p:nvPr/>
          </p:nvSpPr>
          <p:spPr>
            <a:xfrm>
              <a:off x="3780000" y="4065480"/>
              <a:ext cx="14634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ldenburgische IH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4720" y="4381560"/>
              <a:ext cx="1282680" cy="990720"/>
            </a:xfrm>
            <a:prstGeom prst="wedgeRoundRectCallout">
              <a:avLst>
                <a:gd name="adj1" fmla="val 181064"/>
                <a:gd name="adj2" fmla="val -54166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hamber of Commerce and Industry Oldenbur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517920" y="4381560"/>
            <a:ext cx="2863800" cy="1384200"/>
            <a:chOff x="3517920" y="4381560"/>
            <a:chExt cx="2863800" cy="1384200"/>
          </a:xfrm>
        </p:grpSpPr>
        <p:sp>
          <p:nvSpPr>
            <p:cNvPr id="143" name=""/>
            <p:cNvSpPr/>
            <p:nvPr/>
          </p:nvSpPr>
          <p:spPr>
            <a:xfrm>
              <a:off x="5640480" y="4381560"/>
              <a:ext cx="7412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K Brem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17920" y="4940280"/>
              <a:ext cx="1282680" cy="825480"/>
            </a:xfrm>
            <a:prstGeom prst="wedgeRoundRectCallout">
              <a:avLst>
                <a:gd name="adj1" fmla="val 117699"/>
                <a:gd name="adj2" fmla="val -82694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hamber of Crafts Brem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97800" y="2685960"/>
            <a:ext cx="0" cy="5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24200" y="268452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38360" y="965160"/>
            <a:ext cx="777240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Ways of Accreditat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8760" y="2170080"/>
            <a:ext cx="698508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00240" y="3218040"/>
            <a:ext cx="150804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dividual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20960" y="2217600"/>
            <a:ext cx="143856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ccredi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05520" y="2362320"/>
            <a:ext cx="65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97160" y="1746360"/>
            <a:ext cx="575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399"/>
                </a:solidFill>
                <a:latin typeface="Arial"/>
              </a:rPr>
              <a:t>generalised vs. individual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50080" y="3218040"/>
            <a:ext cx="146988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neral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3040" y="2227320"/>
            <a:ext cx="236196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etences from experiential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21200" y="2227320"/>
            <a:ext cx="1752840" cy="733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cational education certifi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123720" y="23623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97800" y="3532320"/>
            <a:ext cx="0" cy="5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04040" y="4051440"/>
            <a:ext cx="240012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ssment of equiva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24200" y="3532320"/>
            <a:ext cx="0" cy="5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4051440"/>
            <a:ext cx="190476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3040" y="5927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it 3/2006 mög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24200" y="4367160"/>
            <a:ext cx="0" cy="62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0600" y="4989600"/>
            <a:ext cx="190512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lex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97800" y="4367160"/>
            <a:ext cx="0" cy="5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02320" y="4886280"/>
            <a:ext cx="2190600" cy="52020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creditation by examination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14400" y="2286000"/>
            <a:ext cx="6985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lnSpc>
                <a:spcPct val="120000"/>
              </a:lnSpc>
              <a:spcBef>
                <a:spcPts val="1063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8404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99"/>
                </a:solidFill>
                <a:latin typeface="Arial"/>
              </a:rPr>
              <a:t>Everyone holding a specific certificate gets accreditation of modules without any further examination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20000"/>
              </a:lnSpc>
              <a:spcBef>
                <a:spcPts val="1063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8404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99"/>
                </a:solidFill>
                <a:latin typeface="Arial"/>
              </a:rPr>
              <a:t>University and vocational education institution assess equivalence of learning outcomes o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20000"/>
              </a:lnSpc>
              <a:spcBef>
                <a:spcPts val="1063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8404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99"/>
                </a:solidFill>
                <a:latin typeface="Arial"/>
              </a:rPr>
              <a:t>Accreditation is guaranteed by univers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28404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68560" y="1403280"/>
            <a:ext cx="575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99"/>
                </a:solidFill>
                <a:latin typeface="Arial"/>
              </a:rPr>
              <a:t>Grundprinzip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8360" y="965160"/>
            <a:ext cx="777240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Generalised Accreditat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2170080"/>
            <a:ext cx="698508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68560" y="1403280"/>
            <a:ext cx="575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399"/>
                </a:solidFill>
                <a:latin typeface="Arial"/>
              </a:rPr>
              <a:t>im Qualifikationsverbund Nord-W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3809880"/>
            <a:ext cx="2362320" cy="10576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veral vocational education certifica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.g. ‘Certified Business Administrator (CCI)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1905120"/>
            <a:ext cx="2133720" cy="1270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 „Business Administration in SME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iversity of Oldenbu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09680" y="3200400"/>
            <a:ext cx="0" cy="45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8360" y="965160"/>
            <a:ext cx="777240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Study Courses and Certificate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02120" y="3809880"/>
            <a:ext cx="2362320" cy="84456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veral vocational education certifica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.g. ‘Meister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02120" y="1905120"/>
            <a:ext cx="2133720" cy="1382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.Sc. „Systems Engineering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.Sc. „Systems Engineering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iversity of Bre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969160" y="3200400"/>
            <a:ext cx="0" cy="45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 flipV="1">
            <a:off x="1600200" y="22093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79640" y="2158920"/>
            <a:ext cx="698472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1676520"/>
            <a:ext cx="698472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28404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4560" y="5219640"/>
            <a:ext cx="3772080" cy="276480"/>
          </a:xfrm>
          <a:prstGeom prst="rect">
            <a:avLst/>
          </a:prstGeom>
          <a:solidFill>
            <a:srgbClr val="a8c4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ocational education certif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1160" y="1951200"/>
            <a:ext cx="2867040" cy="2764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udy module (e.g. 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2362320"/>
            <a:ext cx="4114800" cy="2422080"/>
          </a:xfrm>
          <a:prstGeom prst="rect">
            <a:avLst/>
          </a:prstGeom>
          <a:solidFill>
            <a:srgbClr val="efe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Assessment of equival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Experts asse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 content overlap between study module and certificate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ssess the EQF levels of the competences acquired in the study module and in the vocational education programme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838080" y="2971800"/>
            <a:ext cx="1600200" cy="837000"/>
            <a:chOff x="838080" y="2971800"/>
            <a:chExt cx="1600200" cy="837000"/>
          </a:xfrm>
        </p:grpSpPr>
        <p:sp>
          <p:nvSpPr>
            <p:cNvPr id="192" name=""/>
            <p:cNvSpPr/>
            <p:nvPr/>
          </p:nvSpPr>
          <p:spPr>
            <a:xfrm>
              <a:off x="838080" y="2971800"/>
              <a:ext cx="1600200" cy="276480"/>
            </a:xfrm>
            <a:prstGeom prst="rect">
              <a:avLst/>
            </a:prstGeom>
            <a:solidFill>
              <a:srgbClr val="dde8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ontent doma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42400" y="3254400"/>
              <a:ext cx="1595520" cy="55440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ki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 flipV="1">
            <a:off x="3276720" y="22093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905200" y="3412800"/>
            <a:ext cx="234720" cy="965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505320" y="3412800"/>
            <a:ext cx="334800" cy="965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90920" y="2592360"/>
            <a:ext cx="1600200" cy="1662120"/>
            <a:chOff x="2590920" y="2592360"/>
            <a:chExt cx="1600200" cy="1662120"/>
          </a:xfrm>
        </p:grpSpPr>
        <p:sp>
          <p:nvSpPr>
            <p:cNvPr id="198" name=""/>
            <p:cNvSpPr/>
            <p:nvPr/>
          </p:nvSpPr>
          <p:spPr>
            <a:xfrm>
              <a:off x="2590920" y="2592360"/>
              <a:ext cx="1600200" cy="276480"/>
            </a:xfrm>
            <a:prstGeom prst="rect">
              <a:avLst/>
            </a:prstGeom>
            <a:solidFill>
              <a:srgbClr val="dde8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EQF-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95240" y="2874600"/>
              <a:ext cx="1595520" cy="137988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LI (Module Level Indicato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elation toEQ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everal domains of competence regard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8360" y="965160"/>
            <a:ext cx="777240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Generalised Accreditat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770360" y="2906640"/>
            <a:ext cx="2982960" cy="1928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58760" y="2170080"/>
            <a:ext cx="698508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87400" y="2565360"/>
            <a:ext cx="2982960" cy="1604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87400" y="2170080"/>
            <a:ext cx="578016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ule Level Ind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290664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ope and Act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327816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itical apprec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365112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disciplin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87400" y="4210200"/>
            <a:ext cx="2982960" cy="12801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461628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lem Solving 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500544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lation to Prac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48200" y="333684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no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48200" y="3749760"/>
            <a:ext cx="2286000" cy="307080"/>
          </a:xfrm>
          <a:prstGeom prst="rect">
            <a:avLst/>
          </a:prstGeom>
          <a:solidFill>
            <a:srgbClr val="f8f7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48200" y="4156200"/>
            <a:ext cx="2286000" cy="84456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wareness of ethical and social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4720" y="1244520"/>
            <a:ext cx="777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cales of the MLI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87280" y="1052640"/>
            <a:ext cx="727236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opic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he general situation in Germany regarding academic and vocational 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Non-traditional students in 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Why accredit prior lear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he German Federal Initiative Accreditation of Prior Learning for Academic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 case study: The study programme ‘Bachelor of Business Administration in Small and Medium-Sized Enterprises’,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University of Oldenbu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17720" y="85104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cales of the MLI  - Examples of Item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58760" y="2000160"/>
            <a:ext cx="698508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440" y="2000160"/>
            <a:ext cx="7988040" cy="2577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440" y="1571760"/>
            <a:ext cx="798804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ule Level Ind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2560" y="249876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ope and Act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2560" y="325908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irtical apprec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2560" y="394956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disciplin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89240" y="2498760"/>
            <a:ext cx="5068800" cy="459000"/>
          </a:xfrm>
          <a:prstGeom prst="rect">
            <a:avLst/>
          </a:prstGeom>
          <a:solidFill>
            <a:srgbClr val="f8f7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odule contains at least some in-depth knowledge on the actual  state of research within the domain.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89240" y="3259080"/>
            <a:ext cx="5068800" cy="459000"/>
          </a:xfrm>
          <a:prstGeom prst="rect">
            <a:avLst/>
          </a:prstGeom>
          <a:solidFill>
            <a:srgbClr val="f8f7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odule provides an awareness for the limits of the knowledge acquired.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89240" y="3949560"/>
            <a:ext cx="5068800" cy="459000"/>
          </a:xfrm>
          <a:prstGeom prst="rect">
            <a:avLst/>
          </a:prstGeom>
          <a:solidFill>
            <a:srgbClr val="f8f7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odule contains interdisciplinary topics, requiring knowledge from different domains.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1440" y="4645080"/>
            <a:ext cx="7988040" cy="1928880"/>
            <a:chOff x="541440" y="4645080"/>
            <a:chExt cx="7988040" cy="1928880"/>
          </a:xfrm>
        </p:grpSpPr>
        <p:sp>
          <p:nvSpPr>
            <p:cNvPr id="229" name=""/>
            <p:cNvSpPr/>
            <p:nvPr/>
          </p:nvSpPr>
          <p:spPr>
            <a:xfrm>
              <a:off x="541440" y="4645080"/>
              <a:ext cx="7988040" cy="1928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kil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2560" y="5143320"/>
              <a:ext cx="2285640" cy="30708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blem Solving Skil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2560" y="5904000"/>
              <a:ext cx="2285640" cy="30708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lation to Pract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89240" y="5143320"/>
              <a:ext cx="5068440" cy="459000"/>
            </a:xfrm>
            <a:prstGeom prst="rect">
              <a:avLst/>
            </a:prstGeom>
            <a:solidFill>
              <a:srgbClr val="f8f7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learning objectives or examination questions require comprehensive cognitive of practical skills.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89240" y="5904000"/>
              <a:ext cx="5068440" cy="276480"/>
            </a:xfrm>
            <a:prstGeom prst="rect">
              <a:avLst/>
            </a:prstGeom>
            <a:solidFill>
              <a:srgbClr val="f8f7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module provides knowledge with immediate practical usability.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233600" y="6583320"/>
            <a:ext cx="495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, Oldenburg, 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58760" y="2000160"/>
            <a:ext cx="698508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440" y="2060640"/>
            <a:ext cx="7988040" cy="2901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440" y="1665360"/>
            <a:ext cx="798804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ule Level Ind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2560" y="255888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no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2560" y="331956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2560" y="4010040"/>
            <a:ext cx="2286000" cy="52020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wareness of ethical and social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89240" y="2558880"/>
            <a:ext cx="5068800" cy="459000"/>
          </a:xfrm>
          <a:prstGeom prst="rect">
            <a:avLst/>
          </a:prstGeom>
          <a:solidFill>
            <a:srgbClr val="f8f7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odule contains learning objectives implying non-predictable changes.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89240" y="3319560"/>
            <a:ext cx="5068800" cy="459000"/>
          </a:xfrm>
          <a:prstGeom prst="rect">
            <a:avLst/>
          </a:prstGeom>
          <a:solidFill>
            <a:srgbClr val="f8f7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arners have demonstrated their ability to communicate their understanding of the domain to other learners.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89240" y="4010040"/>
            <a:ext cx="5068800" cy="459000"/>
          </a:xfrm>
          <a:prstGeom prst="rect">
            <a:avLst/>
          </a:prstGeom>
          <a:solidFill>
            <a:srgbClr val="f8f7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solving problems, the learners take into account interests of others and show solidarity with people affected by the solutions.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79560" y="9018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cales of the MLI  - Examples of Item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14400" y="2286000"/>
            <a:ext cx="6985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lnSpc>
                <a:spcPct val="120000"/>
              </a:lnSpc>
              <a:spcBef>
                <a:spcPts val="1063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8404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99"/>
                </a:solidFill>
                <a:latin typeface="Arial"/>
              </a:rPr>
              <a:t>There are differences regarding the EQF levels between both educational programm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20000"/>
              </a:lnSpc>
              <a:spcBef>
                <a:spcPts val="1063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8404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99"/>
                </a:solidFill>
                <a:latin typeface="Arial"/>
              </a:rPr>
              <a:t>These differences – when comparing content-similar modules – are minimal, always less than half a level-step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20000"/>
              </a:lnSpc>
              <a:spcBef>
                <a:spcPts val="1063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8404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99"/>
                </a:solidFill>
                <a:latin typeface="Arial"/>
              </a:rPr>
              <a:t>There is no reason to deny accreditation based on these finding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28404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6480" y="1244520"/>
            <a:ext cx="795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mparison Certified Business Administrator (CCI) /   - BA „Business Administration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14440" y="1692360"/>
            <a:ext cx="5875200" cy="4700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5720" y="825480"/>
            <a:ext cx="795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LI-based Comparison of Competences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(cost accoun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45200" y="1798560"/>
            <a:ext cx="1395360" cy="11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itical appre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terdisciplina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ut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cial/ethical asp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17880" y="5824440"/>
            <a:ext cx="212724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chelor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6800" y="5824440"/>
            <a:ext cx="212724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ocational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525680" y="1641600"/>
            <a:ext cx="5895720" cy="47163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5720" y="825480"/>
            <a:ext cx="795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LI-based Comparison of Competences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(all modules /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4880" y="1747800"/>
            <a:ext cx="1395360" cy="11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itical appre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terdisciplina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ut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cial/ethical asp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17880" y="5824440"/>
            <a:ext cx="216504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chelor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76800" y="5824440"/>
            <a:ext cx="212724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ocational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697800" y="2685960"/>
            <a:ext cx="0" cy="5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24200" y="268452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38360" y="965160"/>
            <a:ext cx="777240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Ways of Accreditat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58760" y="2170080"/>
            <a:ext cx="698508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00240" y="3218040"/>
            <a:ext cx="150804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dividual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20960" y="2217600"/>
            <a:ext cx="143856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ccredi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105520" y="2362320"/>
            <a:ext cx="65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97160" y="1746360"/>
            <a:ext cx="575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399"/>
                </a:solidFill>
                <a:latin typeface="Arial"/>
              </a:rPr>
              <a:t>generalised vs. individual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50080" y="3218040"/>
            <a:ext cx="146988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neral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3040" y="2227320"/>
            <a:ext cx="236196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etences from experiential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21200" y="2227320"/>
            <a:ext cx="1752840" cy="733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cational education certifi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123720" y="23623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97800" y="3532320"/>
            <a:ext cx="0" cy="5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04040" y="4051440"/>
            <a:ext cx="240012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ssment of equiva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24200" y="3532320"/>
            <a:ext cx="0" cy="5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71640" y="4051440"/>
            <a:ext cx="190476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3040" y="5927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it 3/2006 mög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24200" y="4367160"/>
            <a:ext cx="0" cy="62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20600" y="4989600"/>
            <a:ext cx="190512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lex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97800" y="4367160"/>
            <a:ext cx="0" cy="5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02320" y="4886280"/>
            <a:ext cx="2190600" cy="52020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creditation by examination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800" y="3048120"/>
            <a:ext cx="0" cy="144756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495680" y="3504960"/>
            <a:ext cx="0" cy="106668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3048120"/>
            <a:ext cx="0" cy="152388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90200" y="5105520"/>
            <a:ext cx="68580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1828800"/>
            <a:ext cx="220968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udent delivers portfolio (evidence of experiential lear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90840" y="1828800"/>
            <a:ext cx="2210040" cy="1676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udent solves complex task on her/his own (without supervis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1828800"/>
            <a:ext cx="220968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cturer assesses task based on competence-oriented 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4572000"/>
            <a:ext cx="236232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ermission to take part in one ore more examinations (one examination per modu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00800" y="4495680"/>
            <a:ext cx="2362320" cy="12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successful: accreditation of credits for respective module(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38680" y="2362320"/>
            <a:ext cx="60984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572000"/>
            <a:ext cx="2361960" cy="1219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udent receives study material and a complex task for the respective module(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95480" y="1371600"/>
            <a:ext cx="5753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3399"/>
                </a:solidFill>
                <a:latin typeface="Arial"/>
              </a:rPr>
              <a:t>Ablau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8360" y="965160"/>
            <a:ext cx="777240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Individualised Accreditat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2736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aper1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705720" y="762120"/>
            <a:ext cx="18889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914400" y="1955880"/>
            <a:ext cx="3171600" cy="1392840"/>
            <a:chOff x="914400" y="1955880"/>
            <a:chExt cx="3171600" cy="1392840"/>
          </a:xfrm>
        </p:grpSpPr>
        <p:sp>
          <p:nvSpPr>
            <p:cNvPr id="304" name=""/>
            <p:cNvSpPr/>
            <p:nvPr/>
          </p:nvSpPr>
          <p:spPr>
            <a:xfrm>
              <a:off x="914400" y="1955880"/>
              <a:ext cx="3171600" cy="276480"/>
            </a:xfrm>
            <a:prstGeom prst="rect">
              <a:avLst/>
            </a:prstGeom>
            <a:solidFill>
              <a:srgbClr val="dde8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EQF: Compet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23400" y="2238480"/>
              <a:ext cx="3161160" cy="111024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Leadersh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anagement tasks  in a t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espons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utonom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914400" y="3632040"/>
            <a:ext cx="3171600" cy="1019520"/>
            <a:chOff x="914400" y="3632040"/>
            <a:chExt cx="3171600" cy="1019520"/>
          </a:xfrm>
        </p:grpSpPr>
        <p:sp>
          <p:nvSpPr>
            <p:cNvPr id="307" name=""/>
            <p:cNvSpPr/>
            <p:nvPr/>
          </p:nvSpPr>
          <p:spPr>
            <a:xfrm>
              <a:off x="914400" y="3632040"/>
              <a:ext cx="3171600" cy="276480"/>
            </a:xfrm>
            <a:prstGeom prst="rect">
              <a:avLst/>
            </a:prstGeom>
            <a:solidFill>
              <a:srgbClr val="dde8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ommunicative compet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23400" y="3914640"/>
              <a:ext cx="3161160" cy="73692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ommunication of ideas, problems, and 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ethods (e.g. presenta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876920" y="2108160"/>
            <a:ext cx="2867040" cy="1110240"/>
          </a:xfrm>
          <a:prstGeom prst="rect">
            <a:avLst/>
          </a:prstGeom>
          <a:solidFill>
            <a:srgbClr val="d5e4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fere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ob descri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fficial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920" y="3556080"/>
            <a:ext cx="2867040" cy="1110240"/>
          </a:xfrm>
          <a:prstGeom prst="rect">
            <a:avLst/>
          </a:prstGeom>
          <a:solidFill>
            <a:srgbClr val="d5e4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ten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914400" y="4927680"/>
            <a:ext cx="3171600" cy="1114920"/>
            <a:chOff x="914400" y="4927680"/>
            <a:chExt cx="3171600" cy="1114920"/>
          </a:xfrm>
        </p:grpSpPr>
        <p:sp>
          <p:nvSpPr>
            <p:cNvPr id="312" name=""/>
            <p:cNvSpPr/>
            <p:nvPr/>
          </p:nvSpPr>
          <p:spPr>
            <a:xfrm>
              <a:off x="914400" y="4927680"/>
              <a:ext cx="3171600" cy="276480"/>
            </a:xfrm>
            <a:prstGeom prst="rect">
              <a:avLst/>
            </a:prstGeom>
            <a:solidFill>
              <a:srgbClr val="dde8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EQF: Ski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23400" y="5210280"/>
              <a:ext cx="3161160" cy="83232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olving complex ski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ractical ski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reativity and Innov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4876920" y="5079960"/>
            <a:ext cx="2867040" cy="459000"/>
          </a:xfrm>
          <a:prstGeom prst="rect">
            <a:avLst/>
          </a:prstGeom>
          <a:solidFill>
            <a:srgbClr val="d5e4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sentation of three examples from professional exper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114440" y="2717640"/>
            <a:ext cx="762120" cy="0"/>
          </a:xfrm>
          <a:prstGeom prst="line">
            <a:avLst/>
          </a:prstGeom>
          <a:ln w="57240">
            <a:solidFill>
              <a:srgbClr val="0086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114440" y="4089240"/>
            <a:ext cx="762120" cy="0"/>
          </a:xfrm>
          <a:prstGeom prst="line">
            <a:avLst/>
          </a:prstGeom>
          <a:ln w="57240">
            <a:solidFill>
              <a:srgbClr val="0086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114440" y="5308560"/>
            <a:ext cx="762120" cy="0"/>
          </a:xfrm>
          <a:prstGeom prst="line">
            <a:avLst/>
          </a:prstGeom>
          <a:ln w="57240">
            <a:solidFill>
              <a:srgbClr val="0086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8360" y="965160"/>
            <a:ext cx="777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2736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914400" y="2590920"/>
            <a:ext cx="3171600" cy="1114920"/>
            <a:chOff x="914400" y="2590920"/>
            <a:chExt cx="3171600" cy="1114920"/>
          </a:xfrm>
        </p:grpSpPr>
        <p:sp>
          <p:nvSpPr>
            <p:cNvPr id="323" name=""/>
            <p:cNvSpPr/>
            <p:nvPr/>
          </p:nvSpPr>
          <p:spPr>
            <a:xfrm>
              <a:off x="914400" y="2590920"/>
              <a:ext cx="3171600" cy="276480"/>
            </a:xfrm>
            <a:prstGeom prst="rect">
              <a:avLst/>
            </a:prstGeom>
            <a:solidFill>
              <a:srgbClr val="dde8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EQF: 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23400" y="2873520"/>
              <a:ext cx="3161160" cy="83232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omain 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ritical apprec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terdisciplinary 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914400" y="4267080"/>
            <a:ext cx="3171600" cy="1114920"/>
            <a:chOff x="914400" y="4267080"/>
            <a:chExt cx="3171600" cy="1114920"/>
          </a:xfrm>
        </p:grpSpPr>
        <p:sp>
          <p:nvSpPr>
            <p:cNvPr id="326" name=""/>
            <p:cNvSpPr/>
            <p:nvPr/>
          </p:nvSpPr>
          <p:spPr>
            <a:xfrm>
              <a:off x="914400" y="4267080"/>
              <a:ext cx="3171600" cy="276480"/>
            </a:xfrm>
            <a:prstGeom prst="rect">
              <a:avLst/>
            </a:prstGeom>
            <a:solidFill>
              <a:srgbClr val="dde8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EQF: Ski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23400" y="4549680"/>
              <a:ext cx="3161160" cy="83232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olving complex probl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ractical ski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reativity and Innov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4876920" y="2743200"/>
            <a:ext cx="2867040" cy="1014840"/>
          </a:xfrm>
          <a:prstGeom prst="rect">
            <a:avLst/>
          </a:prstGeom>
          <a:solidFill>
            <a:srgbClr val="d5e4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ing theory,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itical use of theory,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nowledge at ‘interfaces’ to other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4419720"/>
            <a:ext cx="2867040" cy="919440"/>
          </a:xfrm>
          <a:prstGeom prst="rect">
            <a:avLst/>
          </a:prstGeom>
          <a:solidFill>
            <a:srgbClr val="d5e4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pplication of domain-specific methods to the practica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pplication of models and theory to the practica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114440" y="3352680"/>
            <a:ext cx="762120" cy="0"/>
          </a:xfrm>
          <a:prstGeom prst="line">
            <a:avLst/>
          </a:prstGeom>
          <a:ln w="57240">
            <a:solidFill>
              <a:srgbClr val="0086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114440" y="4876920"/>
            <a:ext cx="762120" cy="0"/>
          </a:xfrm>
          <a:prstGeom prst="line">
            <a:avLst/>
          </a:prstGeom>
          <a:ln w="57240">
            <a:solidFill>
              <a:srgbClr val="0086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391520" y="838080"/>
            <a:ext cx="963360" cy="12686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8360" y="965160"/>
            <a:ext cx="777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Complex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2736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2438280"/>
            <a:ext cx="2867040" cy="554400"/>
          </a:xfrm>
          <a:prstGeom prst="rect">
            <a:avLst/>
          </a:prstGeom>
          <a:solidFill>
            <a:srgbClr val="d5e4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essional adequacy of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rehens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114440" y="2819520"/>
            <a:ext cx="762120" cy="0"/>
          </a:xfrm>
          <a:prstGeom prst="line">
            <a:avLst/>
          </a:prstGeom>
          <a:ln w="57240">
            <a:solidFill>
              <a:srgbClr val="0086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7391520" y="838080"/>
            <a:ext cx="963360" cy="126864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990720" y="2438280"/>
            <a:ext cx="3171240" cy="741600"/>
            <a:chOff x="990720" y="2438280"/>
            <a:chExt cx="3171240" cy="741600"/>
          </a:xfrm>
        </p:grpSpPr>
        <p:sp>
          <p:nvSpPr>
            <p:cNvPr id="341" name=""/>
            <p:cNvSpPr/>
            <p:nvPr/>
          </p:nvSpPr>
          <p:spPr>
            <a:xfrm>
              <a:off x="990720" y="2438280"/>
              <a:ext cx="3171240" cy="276480"/>
            </a:xfrm>
            <a:prstGeom prst="rect">
              <a:avLst/>
            </a:prstGeom>
            <a:solidFill>
              <a:srgbClr val="dde8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ommunicative Compet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99720" y="2720880"/>
              <a:ext cx="3160800" cy="45900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ommunicate ideas, problems, 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4906800" y="3564000"/>
            <a:ext cx="2867040" cy="459000"/>
          </a:xfrm>
          <a:prstGeom prst="rect">
            <a:avLst/>
          </a:prstGeom>
          <a:solidFill>
            <a:srgbClr val="d5e4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king people affected by the Problem / the solution into 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145040" y="3792600"/>
            <a:ext cx="761760" cy="0"/>
          </a:xfrm>
          <a:prstGeom prst="line">
            <a:avLst/>
          </a:prstGeom>
          <a:ln w="57240">
            <a:solidFill>
              <a:srgbClr val="0086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020600" y="3463920"/>
            <a:ext cx="3171600" cy="559080"/>
            <a:chOff x="1020600" y="3463920"/>
            <a:chExt cx="3171600" cy="559080"/>
          </a:xfrm>
        </p:grpSpPr>
        <p:sp>
          <p:nvSpPr>
            <p:cNvPr id="346" name=""/>
            <p:cNvSpPr/>
            <p:nvPr/>
          </p:nvSpPr>
          <p:spPr>
            <a:xfrm>
              <a:off x="1020600" y="3463920"/>
              <a:ext cx="3171600" cy="276480"/>
            </a:xfrm>
            <a:prstGeom prst="rect">
              <a:avLst/>
            </a:prstGeom>
            <a:solidFill>
              <a:srgbClr val="dde8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ocial Compet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29600" y="3746520"/>
              <a:ext cx="3161160" cy="27648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Taking others into acc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8360" y="965160"/>
            <a:ext cx="777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Complex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097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Black"/>
              </a:rPr>
              <a:t>The Situation in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Relatively few university graduates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 Compared to other countries, e.g. within the OECD, the percentage of university graduates within the population is relatively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 international innovation scoring systems – e.g. the European TrendChart on Innovation – Germany ranks poorly regarding the availability of Science &amp; Technology gradu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Sophisticated vocational education system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 The vocational education system has a long tradition in Germany, and provides high standards of education across a broad range of prof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 Germany, graduates of the higher levels of the vocational education system (e.g. ‘Meister’, ‘Techniker’, ‘Fachwirte’) occupy positions regarded as adequate for academically educated staff (e.g. Bachelors of Engineering)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58760" y="2170080"/>
            <a:ext cx="698508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025720" y="1673280"/>
            <a:ext cx="6095880" cy="499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53" name="" descr="Uni-Info Kopf"/>
          <p:cNvPicPr/>
          <p:nvPr/>
        </p:nvPicPr>
        <p:blipFill>
          <a:blip r:embed="rId2"/>
          <a:stretch/>
        </p:blipFill>
        <p:spPr>
          <a:xfrm>
            <a:off x="2025720" y="758880"/>
            <a:ext cx="5715000" cy="9144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48320" y="3301920"/>
            <a:ext cx="3365280" cy="685800"/>
          </a:xfrm>
          <a:prstGeom prst="wedgeRoundRectCallout">
            <a:avLst>
              <a:gd name="adj1" fmla="val -65611"/>
              <a:gd name="adj2" fmla="val 110648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entrepreneur as 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Thank you for your attention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http://ankom.his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29160" y="417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ankom_fin Kopie" descr=""/>
          <p:cNvPicPr/>
          <p:nvPr/>
        </p:nvPicPr>
        <p:blipFill>
          <a:blip r:embed="rId1"/>
          <a:stretch/>
        </p:blipFill>
        <p:spPr>
          <a:xfrm>
            <a:off x="2987640" y="2421000"/>
            <a:ext cx="29527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52440" y="1989000"/>
          <a:ext cx="846756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989000"/>
                    <a:ext cx="84675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5280" y="1052640"/>
            <a:ext cx="842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Non-traditional Stud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(in % of all new stud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49840" y="5805360"/>
            <a:ext cx="122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ource: Eurostud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097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Black"/>
              </a:rPr>
              <a:t>Problems (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Regarding vocational education graduates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 Despite the relatively high level of education, graduates of the vocational training system may find themselves in ‘dead ends’ regarding their car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.g. ‘Meisters’ wanting to move up to higher levels of management might find this to be difficult or impossible without an academic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Regarding companies/employers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 Especially in areas requiring high levels of knowledge, and facing rapid changes in knowledge development (e.g. ‘High-tech’ domains) encounter difficulties in personne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ditional suppliers of higher-level and continuing vocational training are sometimes not able to provide the education required, while academic institutions do not offer these educational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097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Black"/>
              </a:rPr>
              <a:t>Problems (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576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Regarding universities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t present: No high-priority actual problems requiring AP(E)L or other means to increase permeability for non-traditional students.</a:t>
            </a:r>
            <a:br>
              <a:rPr sz="1600"/>
            </a:b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ception: Acquisition of external funds, but the (commercial) provision of educational services is not a strong part of German academic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 the future: Increasing problems in recruiting students, especially in the technological departments, and at least in some types of universities/polytech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76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Regarding society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e evident lack of permeability for graduates of the vocational education system into academic education violates objectives of educational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 non-permeability also blocks pathways to develop the educational standard – knowledge and skills – of working people in Germany, the most important resource we h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097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Why accredit prior lea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Global objectiv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 Improve the conditions for continuing, life-long competence develop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Maintain and develop competitiveness of the German national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Maintain and develop opportunities for individual and profession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repare for demographic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Specific objectives of the initiativ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mprovement of practically relevant permeability between vocational and academic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ccreditation and dynamisation of vocational compe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evelopment of opportunities for recruiting and developing highly qualified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520560" y="757080"/>
            <a:ext cx="8528040" cy="6075360"/>
            <a:chOff x="520560" y="757080"/>
            <a:chExt cx="8528040" cy="6075360"/>
          </a:xfrm>
        </p:grpSpPr>
        <p:grpSp>
          <p:nvGrpSpPr>
            <p:cNvPr id="66" name=""/>
            <p:cNvGrpSpPr/>
            <p:nvPr/>
          </p:nvGrpSpPr>
          <p:grpSpPr>
            <a:xfrm>
              <a:off x="520560" y="757080"/>
              <a:ext cx="8528040" cy="6075360"/>
              <a:chOff x="520560" y="757080"/>
              <a:chExt cx="8528040" cy="6075360"/>
            </a:xfrm>
          </p:grpSpPr>
          <p:sp>
            <p:nvSpPr>
              <p:cNvPr id="67" name=""/>
              <p:cNvSpPr/>
              <p:nvPr/>
            </p:nvSpPr>
            <p:spPr>
              <a:xfrm>
                <a:off x="520560" y="5969160"/>
                <a:ext cx="7010640" cy="86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757080"/>
                <a:ext cx="7356240" cy="6062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" name=""/>
            <p:cNvSpPr/>
            <p:nvPr/>
          </p:nvSpPr>
          <p:spPr>
            <a:xfrm>
              <a:off x="6629400" y="3422520"/>
              <a:ext cx="2190600" cy="31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ccompanying Rese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18240" y="4356000"/>
              <a:ext cx="1486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rogramme Agen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72200" y="2317680"/>
              <a:ext cx="2635200" cy="54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gional development proje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for the accreditation of prior lear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for academic studie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8840" y="1231920"/>
              <a:ext cx="31053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ccreditation of prior lear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or academic studies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0600" y="819000"/>
              <a:ext cx="87012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Federal Minis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of Edu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and Resear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36200">
              <a:off x="3274920" y="5965560"/>
              <a:ext cx="766080" cy="3373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763640" y="758880"/>
            <a:ext cx="5641920" cy="5410080"/>
            <a:chOff x="1763640" y="758880"/>
            <a:chExt cx="5641920" cy="541008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1763640" y="758880"/>
              <a:ext cx="564192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979640" y="765000"/>
              <a:ext cx="1224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276720" y="1820880"/>
            <a:ext cx="5626080" cy="1506600"/>
            <a:chOff x="3276720" y="1820880"/>
            <a:chExt cx="5626080" cy="1506600"/>
          </a:xfrm>
        </p:grpSpPr>
        <p:sp>
          <p:nvSpPr>
            <p:cNvPr id="79" name=""/>
            <p:cNvSpPr/>
            <p:nvPr/>
          </p:nvSpPr>
          <p:spPr>
            <a:xfrm>
              <a:off x="5148360" y="2349360"/>
              <a:ext cx="1439640" cy="28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76720" y="2637000"/>
              <a:ext cx="790560" cy="287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95640" y="1820880"/>
              <a:ext cx="862200" cy="287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43800" y="2387520"/>
              <a:ext cx="13590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ocial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ducat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fes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"/>
            <p:cNvCxnSpPr>
              <a:stCxn id="81" idx="3"/>
              <a:endCxn id="82" idx="1"/>
            </p:cNvCxnSpPr>
            <p:nvPr/>
          </p:nvCxnSpPr>
          <p:spPr>
            <a:xfrm>
              <a:off x="4870440" y="1964880"/>
              <a:ext cx="2674080" cy="893160"/>
            </a:xfrm>
            <a:prstGeom prst="bentConnector3">
              <a:avLst>
                <a:gd name="adj1" fmla="val 77729"/>
              </a:avLst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84" name=""/>
            <p:cNvCxnSpPr>
              <a:stCxn id="80" idx="3"/>
              <a:endCxn id="82" idx="1"/>
            </p:cNvCxnSpPr>
            <p:nvPr/>
          </p:nvCxnSpPr>
          <p:spPr>
            <a:xfrm>
              <a:off x="4079880" y="2781360"/>
              <a:ext cx="3464640" cy="76680"/>
            </a:xfrm>
            <a:prstGeom prst="bentConnector3">
              <a:avLst>
                <a:gd name="adj1" fmla="val 49807"/>
              </a:avLst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85" name=""/>
            <p:cNvCxnSpPr>
              <a:stCxn id="79" idx="3"/>
              <a:endCxn id="82" idx="1"/>
            </p:cNvCxnSpPr>
            <p:nvPr/>
          </p:nvCxnSpPr>
          <p:spPr>
            <a:xfrm>
              <a:off x="6600600" y="2494080"/>
              <a:ext cx="943560" cy="364320"/>
            </a:xfrm>
            <a:prstGeom prst="bentConnector3">
              <a:avLst>
                <a:gd name="adj1" fmla="val 37022"/>
              </a:avLst>
            </a:prstGeom>
            <a:ln w="25560">
              <a:solidFill>
                <a:srgbClr val="ff0000"/>
              </a:solidFill>
              <a:miter/>
            </a:ln>
          </p:spPr>
        </p:cxnSp>
      </p:grpSp>
      <p:grpSp>
        <p:nvGrpSpPr>
          <p:cNvPr id="86" name=""/>
          <p:cNvGrpSpPr/>
          <p:nvPr/>
        </p:nvGrpSpPr>
        <p:grpSpPr>
          <a:xfrm>
            <a:off x="876240" y="1333440"/>
            <a:ext cx="5686560" cy="1994040"/>
            <a:chOff x="876240" y="1333440"/>
            <a:chExt cx="5686560" cy="1994040"/>
          </a:xfrm>
        </p:grpSpPr>
        <p:sp>
          <p:nvSpPr>
            <p:cNvPr id="87" name=""/>
            <p:cNvSpPr/>
            <p:nvPr/>
          </p:nvSpPr>
          <p:spPr>
            <a:xfrm>
              <a:off x="876240" y="1612800"/>
              <a:ext cx="13590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conomic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nager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fes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2234880" y="1333440"/>
              <a:ext cx="4327920" cy="1994040"/>
              <a:chOff x="2234880" y="1333440"/>
              <a:chExt cx="4327920" cy="1994040"/>
            </a:xfrm>
          </p:grpSpPr>
          <p:cxnSp>
            <p:nvCxnSpPr>
              <p:cNvPr id="89" name=""/>
              <p:cNvCxnSpPr>
                <a:stCxn id="87" idx="3"/>
                <a:endCxn id="90" idx="1"/>
              </p:cNvCxnSpPr>
              <p:nvPr/>
            </p:nvCxnSpPr>
            <p:spPr>
              <a:xfrm flipV="1">
                <a:off x="2234880" y="1477080"/>
                <a:ext cx="2431080" cy="605880"/>
              </a:xfrm>
              <a:prstGeom prst="bentConnector3">
                <a:avLst>
                  <a:gd name="adj1" fmla="val 16587"/>
                </a:avLst>
              </a:prstGeom>
              <a:ln w="25560">
                <a:solidFill>
                  <a:srgbClr val="ff0000"/>
                </a:solidFill>
                <a:miter/>
              </a:ln>
            </p:spPr>
          </p:cxnSp>
          <p:sp>
            <p:nvSpPr>
              <p:cNvPr id="90" name=""/>
              <p:cNvSpPr/>
              <p:nvPr/>
            </p:nvSpPr>
            <p:spPr>
              <a:xfrm>
                <a:off x="4678200" y="1333440"/>
                <a:ext cx="1884600" cy="287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043080" y="1859040"/>
                <a:ext cx="862200" cy="287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2" name=""/>
              <p:cNvCxnSpPr>
                <a:stCxn id="87" idx="3"/>
                <a:endCxn id="91" idx="1"/>
              </p:cNvCxnSpPr>
              <p:nvPr/>
            </p:nvCxnSpPr>
            <p:spPr>
              <a:xfrm flipV="1">
                <a:off x="2234880" y="2002680"/>
                <a:ext cx="795960" cy="80280"/>
              </a:xfrm>
              <a:prstGeom prst="bentConnector3">
                <a:avLst>
                  <a:gd name="adj1" fmla="val 50678"/>
                </a:avLst>
              </a:prstGeom>
              <a:ln w="25560">
                <a:solidFill>
                  <a:srgbClr val="ff0000"/>
                </a:solidFill>
                <a:miter/>
              </a:ln>
            </p:spPr>
          </p:cxnSp>
          <p:sp>
            <p:nvSpPr>
              <p:cNvPr id="93" name=""/>
              <p:cNvSpPr/>
              <p:nvPr/>
            </p:nvSpPr>
            <p:spPr>
              <a:xfrm>
                <a:off x="2662200" y="3040200"/>
                <a:ext cx="1217520" cy="287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4" name=""/>
              <p:cNvCxnSpPr>
                <a:stCxn id="87" idx="3"/>
                <a:endCxn id="93" idx="1"/>
              </p:cNvCxnSpPr>
              <p:nvPr/>
            </p:nvCxnSpPr>
            <p:spPr>
              <a:xfrm>
                <a:off x="2234880" y="2082960"/>
                <a:ext cx="415080" cy="1102320"/>
              </a:xfrm>
              <a:prstGeom prst="bentConnector3">
                <a:avLst>
                  <a:gd name="adj1" fmla="val 51302"/>
                </a:avLst>
              </a:prstGeom>
              <a:ln w="25560">
                <a:solidFill>
                  <a:srgbClr val="ff0000"/>
                </a:solidFill>
                <a:miter/>
              </a:ln>
            </p:spPr>
          </p:cxnSp>
          <p:sp>
            <p:nvSpPr>
              <p:cNvPr id="95" name=""/>
              <p:cNvSpPr/>
              <p:nvPr/>
            </p:nvSpPr>
            <p:spPr>
              <a:xfrm>
                <a:off x="3259080" y="2633760"/>
                <a:ext cx="811440" cy="287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6" name=""/>
              <p:cNvCxnSpPr>
                <a:stCxn id="87" idx="3"/>
                <a:endCxn id="95" idx="1"/>
              </p:cNvCxnSpPr>
              <p:nvPr/>
            </p:nvCxnSpPr>
            <p:spPr>
              <a:xfrm>
                <a:off x="2234880" y="2082600"/>
                <a:ext cx="1011960" cy="695520"/>
              </a:xfrm>
              <a:prstGeom prst="bentConnector3">
                <a:avLst>
                  <a:gd name="adj1" fmla="val 21637"/>
                </a:avLst>
              </a:prstGeom>
              <a:ln w="25560">
                <a:solidFill>
                  <a:srgbClr val="ff0000"/>
                </a:solidFill>
                <a:miter/>
              </a:ln>
            </p:spPr>
          </p:cxnSp>
        </p:grpSp>
      </p:grpSp>
      <p:grpSp>
        <p:nvGrpSpPr>
          <p:cNvPr id="97" name=""/>
          <p:cNvGrpSpPr/>
          <p:nvPr/>
        </p:nvGrpSpPr>
        <p:grpSpPr>
          <a:xfrm>
            <a:off x="3395520" y="2557440"/>
            <a:ext cx="5519880" cy="2649600"/>
            <a:chOff x="3395520" y="2557440"/>
            <a:chExt cx="5519880" cy="2649600"/>
          </a:xfrm>
        </p:grpSpPr>
        <p:sp>
          <p:nvSpPr>
            <p:cNvPr id="98" name=""/>
            <p:cNvSpPr/>
            <p:nvPr/>
          </p:nvSpPr>
          <p:spPr>
            <a:xfrm>
              <a:off x="3395520" y="4203720"/>
              <a:ext cx="944640" cy="287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70440" y="2557440"/>
              <a:ext cx="1027080" cy="287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56400" y="4267080"/>
              <a:ext cx="13590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fes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99" idx="3"/>
              <a:endCxn id="100" idx="1"/>
            </p:cNvCxnSpPr>
            <p:nvPr/>
          </p:nvCxnSpPr>
          <p:spPr>
            <a:xfrm>
              <a:off x="5009760" y="2701800"/>
              <a:ext cx="2547000" cy="2036160"/>
            </a:xfrm>
            <a:prstGeom prst="bentConnector3">
              <a:avLst>
                <a:gd name="adj1" fmla="val 49689"/>
              </a:avLst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02" name=""/>
            <p:cNvCxnSpPr>
              <a:stCxn id="98" idx="3"/>
              <a:endCxn id="100" idx="1"/>
            </p:cNvCxnSpPr>
            <p:nvPr/>
          </p:nvCxnSpPr>
          <p:spPr>
            <a:xfrm>
              <a:off x="4352400" y="4347720"/>
              <a:ext cx="3204360" cy="389880"/>
            </a:xfrm>
            <a:prstGeom prst="bentConnector3">
              <a:avLst>
                <a:gd name="adj1" fmla="val 49741"/>
              </a:avLst>
            </a:prstGeom>
            <a:ln w="25560">
              <a:solidFill>
                <a:srgbClr val="ff0000"/>
              </a:solidFill>
              <a:miter/>
            </a:ln>
          </p:spPr>
        </p:cxnSp>
      </p:grpSp>
      <p:grpSp>
        <p:nvGrpSpPr>
          <p:cNvPr id="103" name=""/>
          <p:cNvGrpSpPr/>
          <p:nvPr/>
        </p:nvGrpSpPr>
        <p:grpSpPr>
          <a:xfrm>
            <a:off x="706320" y="2374920"/>
            <a:ext cx="4476960" cy="2832120"/>
            <a:chOff x="706320" y="2374920"/>
            <a:chExt cx="4476960" cy="2832120"/>
          </a:xfrm>
        </p:grpSpPr>
        <p:sp>
          <p:nvSpPr>
            <p:cNvPr id="104" name=""/>
            <p:cNvSpPr/>
            <p:nvPr/>
          </p:nvSpPr>
          <p:spPr>
            <a:xfrm>
              <a:off x="3797280" y="2374920"/>
              <a:ext cx="944640" cy="287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95880" y="3624120"/>
              <a:ext cx="887400" cy="28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6320" y="4267080"/>
              <a:ext cx="13590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gine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fes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MEM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" name=""/>
            <p:cNvCxnSpPr>
              <a:stCxn id="105" idx="1"/>
              <a:endCxn id="106" idx="3"/>
            </p:cNvCxnSpPr>
            <p:nvPr/>
          </p:nvCxnSpPr>
          <p:spPr>
            <a:xfrm flipV="1" rot="10800000">
              <a:off x="2064600" y="3768480"/>
              <a:ext cx="2218320" cy="969120"/>
            </a:xfrm>
            <a:prstGeom prst="bentConnector3">
              <a:avLst>
                <a:gd name="adj1" fmla="val 80522"/>
              </a:avLst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08" name=""/>
            <p:cNvCxnSpPr/>
            <p:nvPr/>
          </p:nvCxnSpPr>
          <p:spPr>
            <a:xfrm flipV="1" rot="10800000">
              <a:off x="2077200" y="2518200"/>
              <a:ext cx="1720080" cy="2218680"/>
            </a:xfrm>
            <a:prstGeom prst="bentConnector3">
              <a:avLst>
                <a:gd name="adj1" fmla="val 75884"/>
              </a:avLst>
            </a:prstGeom>
            <a:ln w="25560">
              <a:solidFill>
                <a:srgbClr val="ff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08:32:57Z</dcterms:created>
  <dc:creator>Minks</dc:creator>
  <dc:description/>
  <dc:language>en-US</dc:language>
  <cp:lastModifiedBy>hartmann</cp:lastModifiedBy>
  <dcterms:modified xsi:type="dcterms:W3CDTF">2007-06-04T08:50:00Z</dcterms:modified>
  <cp:revision>210</cp:revision>
  <dc:subject/>
  <dc:title>PowerPoint-Präsentation</dc:title>
</cp:coreProperties>
</file>