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74647-D741-4126-86D8-30B3F2E45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291D9-A54C-4AD1-A67F-D22ECC99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071506-0367-4157-AEFF-355CB4CAF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B84A1-55DF-479C-8803-98A2BCC74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39B55-CD7F-49A0-8434-B596E4E88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07566-AEEF-4177-AF7E-03A39B750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37951-BA41-48C4-A2FC-CE06920E4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A943D-F2BE-44B9-A71E-79B22F302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259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43556-71DB-4B5B-A1A0-5A4215C25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C86D-32A7-4DA5-AEC4-2B1FD8BEA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0F5A4-62D7-42D5-ADAF-390626DF8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38492-BAE8-4DA0-A14A-7823A5F7F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164360" y="260280"/>
            <a:ext cx="1465200" cy="449280"/>
          </a:xfrm>
          <a:prstGeom prst="rect">
            <a:avLst/>
          </a:prstGeom>
          <a:ln w="0">
            <a:noFill/>
          </a:ln>
        </p:spPr>
      </p:pic>
      <p:pic>
        <p:nvPicPr>
          <p:cNvPr id="1" name="" descr=""/>
          <p:cNvPicPr/>
          <p:nvPr/>
        </p:nvPicPr>
        <p:blipFill>
          <a:blip r:embed="rId3"/>
          <a:stretch/>
        </p:blipFill>
        <p:spPr>
          <a:xfrm>
            <a:off x="468360" y="260280"/>
            <a:ext cx="1439640" cy="743040"/>
          </a:xfrm>
          <a:prstGeom prst="rect">
            <a:avLst/>
          </a:prstGeom>
          <a:ln w="0">
            <a:noFill/>
          </a:ln>
        </p:spPr>
      </p:pic>
      <p:sp>
        <p:nvSpPr>
          <p:cNvPr id="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title text format</a:t>
            </a:r>
            <a:endParaRPr b="0" lang="en-US" sz="2500" spc="-1" strike="noStrike">
              <a:solidFill>
                <a:srgbClr val="000000"/>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ünchen, 04./05. Juni 2007</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1D87-C3BC-48E4-8BD6-78CD87FB0B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2E67-5CE4-4251-BD7F-8A3A45ABEE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 name="" descr=""/>
          <p:cNvPicPr/>
          <p:nvPr/>
        </p:nvPicPr>
        <p:blipFill>
          <a:blip r:embed="rId4"/>
          <a:stretch/>
        </p:blipFill>
        <p:spPr>
          <a:xfrm>
            <a:off x="7236000" y="5632560"/>
            <a:ext cx="1450800" cy="1015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spcBef>
                <a:spcPts val="1125"/>
              </a:spcBef>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99"/>
                </a:solidFill>
                <a:latin typeface="Arial"/>
              </a:rPr>
              <a:t>„</a:t>
            </a:r>
            <a:r>
              <a:rPr b="1" lang="de-DE" sz="2000" spc="-1" strike="noStrike">
                <a:solidFill>
                  <a:srgbClr val="333399"/>
                </a:solidFill>
                <a:latin typeface="Arial"/>
              </a:rPr>
              <a:t>Lernraum Europa verwirklichen“</a:t>
            </a:r>
            <a:br>
              <a:rPr sz="1500"/>
            </a:br>
            <a:br>
              <a:rPr sz="500"/>
            </a:br>
            <a:r>
              <a:rPr b="1" lang="de-DE" sz="1500" spc="-1" strike="noStrike">
                <a:solidFill>
                  <a:srgbClr val="333399"/>
                </a:solidFill>
                <a:latin typeface="Arial"/>
              </a:rPr>
              <a:t>„Realizing the European Learning Area“</a:t>
            </a:r>
            <a:br>
              <a:rPr sz="1500"/>
            </a:br>
            <a:br>
              <a:rPr sz="500"/>
            </a:br>
            <a:r>
              <a:rPr b="1" lang="de-DE" sz="1500" spc="-1" strike="noStrike">
                <a:solidFill>
                  <a:srgbClr val="333399"/>
                </a:solidFill>
                <a:latin typeface="Arial"/>
              </a:rPr>
              <a:t>„Réaliser l`Espace Educatif Européen“</a:t>
            </a:r>
            <a:br>
              <a:rPr sz="1500"/>
            </a:br>
            <a:endParaRPr b="0" lang="en-US" sz="15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zing and accrediting unskilled work experience in the Norwegian higher education system.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lusions from the Refine project</a:t>
            </a:r>
            <a:r>
              <a:rPr b="0" lang="nb-NO"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Grethe Haugøy, Norwa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038D859-F8AC-4619-8853-7DF811A100FC}" type="slidenum">
              <a:t>1</a:t>
            </a:fld>
          </a:p>
        </p:txBody>
      </p:sp>
      <p:sp>
        <p:nvSpPr>
          <p:cNvPr id="5" name="PlaceHolder 4"/>
          <p:cNvSpPr>
            <a:spLocks noGrp="1"/>
          </p:cNvSpPr>
          <p:nvPr>
            <p:ph type="dt" idx="1"/>
          </p:nvPr>
        </p:nvSpPr>
        <p:spPr/>
        <p:txBody>
          <a:bodyPr/>
          <a:p>
            <a:fld id="{D6E5AE17-E99B-45EF-9409-8934759B2216}"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Challenges</a:t>
            </a:r>
            <a:endParaRPr b="0" lang="en-US" sz="25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Which study areas may be exempted based on prior learning?</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re are different attitudes regarding whether obligatory modules may be exempted</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Electives and modules without study points are the easiest in which to achieve exemp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 general, training may not be exempted, because supervised training is regarded as of a higher quality than work experi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Curriculum demands also curb the chance of achieving exemption from training modu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C003A2D-B39D-4BBA-9DBD-D603351AD480}" type="slidenum">
              <a:t>10</a:t>
            </a:fld>
          </a:p>
        </p:txBody>
      </p:sp>
      <p:sp>
        <p:nvSpPr>
          <p:cNvPr id="5" name="PlaceHolder 4"/>
          <p:cNvSpPr>
            <a:spLocks noGrp="1"/>
          </p:cNvSpPr>
          <p:nvPr>
            <p:ph type="dt" idx="1"/>
          </p:nvPr>
        </p:nvSpPr>
        <p:spPr/>
        <p:txBody>
          <a:bodyPr/>
          <a:p>
            <a:fld id="{FC3C4F37-F5F2-497B-A0B8-BA14B2D3EB4C}"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Challenges</a:t>
            </a:r>
            <a:endParaRPr b="0" lang="en-US" sz="25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ck of documentation tools adapted to HE-institutions’ need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Refine project demonstrated that existing tools are inadequate when it comes to documenting informal and non-formal prior learning in order to achieve exemption from higher educ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institutions communicated that they need a documentation tool that to a larger extent documents skills and competences that are specifically related to the field of study from which the candidates ask exemption. </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F001392-936B-4EAB-AC38-611884078330}" type="slidenum">
              <a:t>11</a:t>
            </a:fld>
          </a:p>
        </p:txBody>
      </p:sp>
      <p:sp>
        <p:nvSpPr>
          <p:cNvPr id="5" name="PlaceHolder 4"/>
          <p:cNvSpPr>
            <a:spLocks noGrp="1"/>
          </p:cNvSpPr>
          <p:nvPr>
            <p:ph type="dt" idx="1"/>
          </p:nvPr>
        </p:nvSpPr>
        <p:spPr/>
        <p:txBody>
          <a:bodyPr/>
          <a:p>
            <a:fld id="{FE9A32D1-87F7-4FAA-9CF4-20240632A382}"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Challenges</a:t>
            </a:r>
            <a:endParaRPr b="0" lang="en-US" sz="25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Lack of information about the right to exemption. Only 123 people applied for exemption based on prior learning in 2001-2004. In contrast, 7 000 students applied for </a:t>
            </a:r>
            <a:r>
              <a:rPr b="1" lang="nb-NO" sz="2800" spc="-1" strike="noStrike">
                <a:solidFill>
                  <a:srgbClr val="000000"/>
                </a:solidFill>
                <a:latin typeface="Arial"/>
              </a:rPr>
              <a:t>admission</a:t>
            </a:r>
            <a:r>
              <a:rPr b="0" lang="nb-NO" sz="2800" spc="-1" strike="noStrike">
                <a:solidFill>
                  <a:srgbClr val="000000"/>
                </a:solidFill>
                <a:latin typeface="Arial"/>
              </a:rPr>
              <a:t> based on prior learning every year in the same perio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Hardly any HE-institution had information about exemption on their homepages or in their written inform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 national admission system carried until recently no such informat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re are no national actors who take responsibility for the information process in this matte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0E17C65-B666-4149-A968-F5FCFFAC299E}" type="slidenum">
              <a:t>12</a:t>
            </a:fld>
          </a:p>
        </p:txBody>
      </p:sp>
      <p:sp>
        <p:nvSpPr>
          <p:cNvPr id="5" name="PlaceHolder 4"/>
          <p:cNvSpPr>
            <a:spLocks noGrp="1"/>
          </p:cNvSpPr>
          <p:nvPr>
            <p:ph type="dt" idx="1"/>
          </p:nvPr>
        </p:nvSpPr>
        <p:spPr/>
        <p:txBody>
          <a:bodyPr/>
          <a:p>
            <a:fld id="{9B5BBA83-DF00-491E-837B-012A7E83C33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Other research</a:t>
            </a:r>
            <a:endParaRPr b="0" lang="en-US" sz="25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NIFU Step (2005)</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Interviewed all instituitons of higher learning in Norway about exemption based on prior learn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2001-2004: only 123 applications were received. 88 achieved exemption, 39 of these in areas without study points. 39 applicants received exemption from 5-36 study point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1C4A52-FB40-4002-9FEA-51738154D834}" type="slidenum">
              <a:t>13</a:t>
            </a:fld>
          </a:p>
        </p:txBody>
      </p:sp>
      <p:sp>
        <p:nvSpPr>
          <p:cNvPr id="5" name="PlaceHolder 4"/>
          <p:cNvSpPr>
            <a:spLocks noGrp="1"/>
          </p:cNvSpPr>
          <p:nvPr>
            <p:ph type="dt" idx="1"/>
          </p:nvPr>
        </p:nvSpPr>
        <p:spPr/>
        <p:txBody>
          <a:bodyPr/>
          <a:p>
            <a:fld id="{95E3E4C3-284F-4B5C-954B-59800CFFC021}"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What is Refine?</a:t>
            </a:r>
            <a:endParaRPr b="0" lang="en-US" sz="25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n international project with partners from 12 countries, supported by EU’s Joint Action progra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REFINE = REcognition of Formal, Informal and Non-formal Educ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The Norwegian sub-project was partly supported by the Ministry of Education. Project partner: Frank Moe, U of Berge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Project period: April 2004-Jan 2005</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24E5A46-2443-4DFE-AF7B-5EC32DC5C998}" type="slidenum">
              <a:t>2</a:t>
            </a:fld>
          </a:p>
        </p:txBody>
      </p:sp>
      <p:sp>
        <p:nvSpPr>
          <p:cNvPr id="5" name="PlaceHolder 4"/>
          <p:cNvSpPr>
            <a:spLocks noGrp="1"/>
          </p:cNvSpPr>
          <p:nvPr>
            <p:ph type="dt" idx="1"/>
          </p:nvPr>
        </p:nvSpPr>
        <p:spPr/>
        <p:txBody>
          <a:bodyPr/>
          <a:p>
            <a:fld id="{17932EA1-37DD-4563-9906-90ACE61A90E8}"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Objectives</a:t>
            </a:r>
            <a:endParaRPr b="0" lang="en-US" sz="25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Overall (international) aim: to look more closely at the possibility of identifying and recognizing informal learning and to assess various European tools and metho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The main objective of the Norwegian sub-project was to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vestigate the practice of granting exemption(s) from a study program or degree in higher education based on documented non-formal and informal learning.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est tools available for documenting prior non-formal and informal learning, as well as work experience.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Arial"/>
              </a:rPr>
              <a:t>Another main objective was to provide a basis for discussing exemption in higher education, as well as investigating the demands a candidate wishing exemption will meet and how these demands may be me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83830BA-B37E-4775-9C69-7328350C1076}" type="slidenum">
              <a:t>3</a:t>
            </a:fld>
          </a:p>
        </p:txBody>
      </p:sp>
      <p:sp>
        <p:nvSpPr>
          <p:cNvPr id="5" name="PlaceHolder 4"/>
          <p:cNvSpPr>
            <a:spLocks noGrp="1"/>
          </p:cNvSpPr>
          <p:nvPr>
            <p:ph type="dt" idx="1"/>
          </p:nvPr>
        </p:nvSpPr>
        <p:spPr/>
        <p:txBody>
          <a:bodyPr/>
          <a:p>
            <a:fld id="{BDB44522-6A23-4EA6-85DF-F28E8C791B2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The Norwegian landscape</a:t>
            </a:r>
            <a:endParaRPr b="0" lang="en-US" sz="2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he competence (LLL) reform (1999)</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roducing a national system of recognizing and validating informal and non-formal learning in relation to the labor market and the education s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dmission to HE studies based on prior learning for students older than 25</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The Quality Refor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roducing bachelor and master degre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Introducing ECTS/alphabet grading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Other structural developmen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5BCD253-80B6-4AD9-A957-4C23A5852B5F}" type="slidenum">
              <a:t>4</a:t>
            </a:fld>
          </a:p>
        </p:txBody>
      </p:sp>
      <p:sp>
        <p:nvSpPr>
          <p:cNvPr id="5" name="PlaceHolder 4"/>
          <p:cNvSpPr>
            <a:spLocks noGrp="1"/>
          </p:cNvSpPr>
          <p:nvPr>
            <p:ph type="dt" idx="1"/>
          </p:nvPr>
        </p:nvSpPr>
        <p:spPr/>
        <p:txBody>
          <a:bodyPr/>
          <a:p>
            <a:fld id="{28BE3976-1FA7-42A5-B4C4-359F8933B84C}"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Act on universities and colleges</a:t>
            </a:r>
            <a:endParaRPr b="0" lang="en-US" sz="2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dmission: The University Law states that higher education institutions in Norway must accept competence </a:t>
            </a:r>
            <a:r>
              <a:rPr b="1" lang="nb-NO" sz="2400" spc="-1" strike="noStrike">
                <a:solidFill>
                  <a:srgbClr val="000000"/>
                </a:solidFill>
                <a:latin typeface="Arial"/>
              </a:rPr>
              <a:t>equivalent to</a:t>
            </a:r>
            <a:r>
              <a:rPr b="0" lang="nb-NO" sz="2400" spc="-1" strike="noStrike">
                <a:solidFill>
                  <a:srgbClr val="000000"/>
                </a:solidFill>
                <a:latin typeface="Arial"/>
              </a:rPr>
              <a:t> the general secondary school diploma when admitting students of 25 years or old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0" lang="nb-NO" sz="2400" spc="-1" strike="noStrike">
                <a:solidFill>
                  <a:srgbClr val="000000"/>
                </a:solidFill>
                <a:latin typeface="Arial"/>
              </a:rPr>
              <a:t>	</a:t>
            </a:r>
            <a:r>
              <a:rPr b="0" lang="nb-NO" sz="2400" spc="-1" strike="noStrike">
                <a:solidFill>
                  <a:srgbClr val="000000"/>
                </a:solidFill>
                <a:latin typeface="Arial"/>
              </a:rPr>
              <a:t>=Admission on the basis of prior non-formal, informal and formal lear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Exemption: Non-formal and informal learning may also form a basis for granting </a:t>
            </a:r>
            <a:r>
              <a:rPr b="1" lang="nb-NO" sz="2400" spc="-1" strike="noStrike">
                <a:solidFill>
                  <a:srgbClr val="000000"/>
                </a:solidFill>
                <a:latin typeface="Arial"/>
              </a:rPr>
              <a:t>exemption</a:t>
            </a:r>
            <a:r>
              <a:rPr b="0" lang="nb-NO" sz="2400" spc="-1" strike="noStrike">
                <a:solidFill>
                  <a:srgbClr val="000000"/>
                </a:solidFill>
                <a:latin typeface="Arial"/>
              </a:rPr>
              <a:t> from a study program or degree, but the law is vague with regard to the degree and volume of such exemption.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2FA8C8-25D4-4AE6-9A8B-2E2D8125980F}" type="slidenum">
              <a:t>5</a:t>
            </a:fld>
          </a:p>
        </p:txBody>
      </p:sp>
      <p:sp>
        <p:nvSpPr>
          <p:cNvPr id="5" name="PlaceHolder 4"/>
          <p:cNvSpPr>
            <a:spLocks noGrp="1"/>
          </p:cNvSpPr>
          <p:nvPr>
            <p:ph type="dt" idx="1"/>
          </p:nvPr>
        </p:nvSpPr>
        <p:spPr/>
        <p:txBody>
          <a:bodyPr/>
          <a:p>
            <a:fld id="{E09FD2C8-B11C-4331-A3A0-6047749BF96A}"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Project activities/method</a:t>
            </a:r>
            <a:br>
              <a:rPr sz="2500"/>
            </a:br>
            <a:endParaRPr b="0" lang="en-US" sz="2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1. Interviews with a selection of HE-institutions to discuss exemption practices and view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University of Ber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orwegian Academy of Musi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esna Col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arvik Col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odø colle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BI (school of economics and managem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2. Case studies of 10 candidates with extensive relevant work experience, who applied for exemption from the HE-institutions above</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3CB1B8D-721A-4010-8BD1-39D8E47F8955}" type="slidenum">
              <a:t>6</a:t>
            </a:fld>
          </a:p>
        </p:txBody>
      </p:sp>
      <p:sp>
        <p:nvSpPr>
          <p:cNvPr id="5" name="PlaceHolder 4"/>
          <p:cNvSpPr>
            <a:spLocks noGrp="1"/>
          </p:cNvSpPr>
          <p:nvPr>
            <p:ph type="dt" idx="1"/>
          </p:nvPr>
        </p:nvSpPr>
        <p:spPr/>
        <p:txBody>
          <a:bodyPr/>
          <a:p>
            <a:fld id="{D4DE5AFC-1F29-4733-B4C1-7A017D25E9A6}"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Examples of candidates</a:t>
            </a:r>
            <a:endParaRPr b="0" lang="en-US" sz="25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pplicant A has worked as a primary school teacher for 30 years. She has no formal teacher training except from a range of courses offered by her employer. Her work experience covers all aspects of teaching, including being responsible for pupils with special needs. She seeks exemption from the teacher training study of a local college, mainly the training modu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Applicant B is a Treasury Associate in a petro-geological firm. She has 60 study points from BI School of Economics and extensive work experience within finance. She seeks exemption from finance modules in BI’s bachelor progra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F678CC3-2576-43D9-AF78-A758A9665656}" type="slidenum">
              <a:t>7</a:t>
            </a:fld>
          </a:p>
        </p:txBody>
      </p:sp>
      <p:sp>
        <p:nvSpPr>
          <p:cNvPr id="5" name="PlaceHolder 4"/>
          <p:cNvSpPr>
            <a:spLocks noGrp="1"/>
          </p:cNvSpPr>
          <p:nvPr>
            <p:ph type="dt" idx="1"/>
          </p:nvPr>
        </p:nvSpPr>
        <p:spPr/>
        <p:txBody>
          <a:bodyPr/>
          <a:p>
            <a:fld id="{00C7EA7B-603C-477A-964C-801DD717690E}"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Main findings</a:t>
            </a:r>
            <a:endParaRPr b="0" lang="en-US" sz="2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None of the institutions had a recognized procedure for the assessment of exemption candidates, and consequently dealt with the case candidates in an ad hoc mann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Due to the lack of national or even local procedures, the institutions had different views and conclusions about the nature of exemption. Exemption from training was revealed as a particularly difficult issu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There are no existing tools that are specifically developed for exemption purposes in higher education. The existing tools are developed for secondary school level.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25480C9-BFE0-4B55-93C3-75B4A37A403B}" type="slidenum">
              <a:t>8</a:t>
            </a:fld>
          </a:p>
        </p:txBody>
      </p:sp>
      <p:sp>
        <p:nvSpPr>
          <p:cNvPr id="5" name="PlaceHolder 4"/>
          <p:cNvSpPr>
            <a:spLocks noGrp="1"/>
          </p:cNvSpPr>
          <p:nvPr>
            <p:ph type="dt" idx="1"/>
          </p:nvPr>
        </p:nvSpPr>
        <p:spPr/>
        <p:txBody>
          <a:bodyPr/>
          <a:p>
            <a:fld id="{D90B5916-392F-41B7-BF76-7C2A9966B72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500" spc="-1" strike="noStrike">
                <a:solidFill>
                  <a:srgbClr val="000000"/>
                </a:solidFill>
                <a:latin typeface="Arial"/>
              </a:rPr>
              <a:t>Challenges</a:t>
            </a:r>
            <a:endParaRPr b="0" lang="en-US" sz="25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Lack of common proced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Each HE-institution handles exemption applications locally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Arial"/>
              </a:rPr>
              <a:t>All HE-institutions participate in a national council where </a:t>
            </a:r>
            <a:r>
              <a:rPr b="1" lang="nb-NO" sz="2800" spc="-1" strike="noStrike">
                <a:solidFill>
                  <a:srgbClr val="000000"/>
                </a:solidFill>
                <a:latin typeface="Arial"/>
              </a:rPr>
              <a:t>admission</a:t>
            </a:r>
            <a:r>
              <a:rPr b="0" lang="nb-NO" sz="2800" spc="-1" strike="noStrike">
                <a:solidFill>
                  <a:srgbClr val="000000"/>
                </a:solidFill>
                <a:latin typeface="Arial"/>
              </a:rPr>
              <a:t> based on prior learning is discussed – but exemption has so far not been on the agend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BAE73DB-0C0B-415F-A5BB-30DD31E77310}" type="slidenum">
              <a:t>9</a:t>
            </a:fld>
          </a:p>
        </p:txBody>
      </p:sp>
      <p:sp>
        <p:nvSpPr>
          <p:cNvPr id="5" name="PlaceHolder 4"/>
          <p:cNvSpPr>
            <a:spLocks noGrp="1"/>
          </p:cNvSpPr>
          <p:nvPr>
            <p:ph type="dt" idx="1"/>
          </p:nvPr>
        </p:nvSpPr>
        <p:spPr/>
        <p:txBody>
          <a:bodyPr/>
          <a:p>
            <a:fld id="{B62A309A-7CF5-4B9D-97BA-641D94A1117B}"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13:40:08Z</dcterms:created>
  <dc:creator>sena</dc:creator>
  <dc:description/>
  <dc:language>en-US</dc:language>
  <cp:lastModifiedBy>Vox</cp:lastModifiedBy>
  <dcterms:modified xsi:type="dcterms:W3CDTF">2007-06-28T16:55:43Z</dcterms:modified>
  <cp:revision>29</cp:revision>
  <dc:subject/>
  <dc:title>Folie 1</dc:title>
</cp:coreProperties>
</file>